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B7AC3-4536-4A20-921A-D768370AC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8"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6F11E-69F0-4866-A5E7-D10359359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FE4FF-5586-4837-B844-5125B16FA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6"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61C7D-C00C-49FF-B986-6121E77A6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8F023-02E1-4B60-8EEC-D864F0351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2"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8A006-7B2B-46FE-AF89-F741108BD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4"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C04E0-CE7B-4448-85B8-DC36A41C3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6"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D69AA-86F8-458C-A8B1-01E23C5FA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0A356-6A3A-4E11-9B01-709538EDB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E5775-0E8E-4213-AEC6-DE9B6E425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239FE-F021-4CF5-9126-80A98A4D3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7"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04E64-DDB0-4012-B997-8271AF8D2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5"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6"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7"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ED6FC-D197-413D-8335-E5A03BF30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9"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DBF43-DC03-44F4-9911-FDB6453DC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3"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2CFA1-AFB9-4571-8DFA-1F086B0A3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7"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468378-24DE-4B70-9718-B0B8C50AC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41"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3"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4"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1FA36-1956-4702-B8BC-9E79FC727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9"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9B3B6-C08B-49E6-9C94-7B6771774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1"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5A604-F130-464B-9664-60084FF5C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0D8E7-CB7B-47A6-82EB-4B99AF6B2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D33F1-BA3A-4139-81CC-F38475759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1B44F-3A86-4203-AC7F-AEC657045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0"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1524B-9B29-400E-BF95-935B635C9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4"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796BA-83C9-4077-97CD-C76631242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914400" y="1600200"/>
            <a:ext cx="8247240" cy="5257800"/>
            <a:chOff x="914400" y="1600200"/>
            <a:chExt cx="8247240" cy="5257800"/>
          </a:xfrm>
        </p:grpSpPr>
        <p:sp>
          <p:nvSpPr>
            <p:cNvPr id="1"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301800"/>
                </a:solidFill>
                <a:latin typeface="Arial Narrow"/>
              </a:rPr>
              <a:t>Click to edit the title text format</a:t>
            </a:r>
            <a:endParaRPr b="0" lang="en-US" sz="4700" spc="-1" strike="noStrike">
              <a:solidFill>
                <a:srgbClr val="301800"/>
              </a:solidFill>
              <a:latin typeface="Arial Narrow"/>
            </a:endParaRPr>
          </a:p>
        </p:txBody>
      </p:sp>
      <p:sp>
        <p:nvSpPr>
          <p:cNvPr id="22" name="PlaceHolder 2"/>
          <p:cNvSpPr>
            <a:spLocks noGrp="1"/>
          </p:cNvSpPr>
          <p:nvPr>
            <p:ph type="body"/>
          </p:nvPr>
        </p:nvSpPr>
        <p:spPr>
          <a:xfrm>
            <a:off x="1295280" y="182844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3" name="PlaceHolder 3"/>
          <p:cNvSpPr>
            <a:spLocks noGrp="1"/>
          </p:cNvSpPr>
          <p:nvPr>
            <p:ph type="dt" idx="1"/>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200040" y="640080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7053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EE53-1580-43A8-9D44-3C96492F7CB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914400" y="1600200"/>
            <a:ext cx="8247240" cy="5257800"/>
            <a:chOff x="914400" y="1600200"/>
            <a:chExt cx="8247240" cy="5257800"/>
          </a:xfrm>
        </p:grpSpPr>
        <p:sp>
          <p:nvSpPr>
            <p:cNvPr id="63"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7"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9"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2"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1800"/>
                </a:solidFill>
                <a:latin typeface="Arial Narrow"/>
              </a:rPr>
              <a:t>Click to edit the title text format</a:t>
            </a:r>
            <a:endParaRPr b="0" lang="en-US" sz="4400" spc="-1" strike="noStrike">
              <a:solidFill>
                <a:srgbClr val="301800"/>
              </a:solidFill>
              <a:latin typeface="Arial Narrow"/>
            </a:endParaRPr>
          </a:p>
        </p:txBody>
      </p:sp>
      <p:grpSp>
        <p:nvGrpSpPr>
          <p:cNvPr id="84" name=""/>
          <p:cNvGrpSpPr/>
          <p:nvPr/>
        </p:nvGrpSpPr>
        <p:grpSpPr>
          <a:xfrm>
            <a:off x="0" y="0"/>
            <a:ext cx="3057480" cy="2057400"/>
            <a:chOff x="0" y="0"/>
            <a:chExt cx="3057480" cy="2057400"/>
          </a:xfrm>
        </p:grpSpPr>
        <p:sp>
          <p:nvSpPr>
            <p:cNvPr id="85" name=""/>
            <p:cNvSpPr/>
            <p:nvPr/>
          </p:nvSpPr>
          <p:spPr>
            <a:xfrm>
              <a:off x="0" y="0"/>
              <a:ext cx="3048120" cy="20574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
            <p:cNvGrpSpPr/>
            <p:nvPr/>
          </p:nvGrpSpPr>
          <p:grpSpPr>
            <a:xfrm>
              <a:off x="1440" y="2009880"/>
              <a:ext cx="3052800" cy="47520"/>
              <a:chOff x="1440" y="2009880"/>
              <a:chExt cx="3052800" cy="47520"/>
            </a:xfrm>
          </p:grpSpPr>
          <p:sp>
            <p:nvSpPr>
              <p:cNvPr id="87" name=""/>
              <p:cNvSpPr/>
              <p:nvPr/>
            </p:nvSpPr>
            <p:spPr>
              <a:xfrm>
                <a:off x="1440" y="2009880"/>
                <a:ext cx="3052800" cy="47520"/>
              </a:xfrm>
              <a:prstGeom prst="rect">
                <a:avLst/>
              </a:prstGeom>
              <a:solidFill>
                <a:srgbClr val="b38961"/>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8" name=""/>
              <p:cNvSpPr/>
              <p:nvPr/>
            </p:nvSpPr>
            <p:spPr>
              <a:xfrm>
                <a:off x="93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 name=""/>
              <p:cNvSpPr/>
              <p:nvPr/>
            </p:nvSpPr>
            <p:spPr>
              <a:xfrm>
                <a:off x="3160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 name=""/>
              <p:cNvSpPr/>
              <p:nvPr/>
            </p:nvSpPr>
            <p:spPr>
              <a:xfrm>
                <a:off x="622440" y="2021040"/>
                <a:ext cx="15372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 name=""/>
              <p:cNvSpPr/>
              <p:nvPr/>
            </p:nvSpPr>
            <p:spPr>
              <a:xfrm>
                <a:off x="9302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 name=""/>
              <p:cNvSpPr/>
              <p:nvPr/>
            </p:nvSpPr>
            <p:spPr>
              <a:xfrm>
                <a:off x="123660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 name=""/>
              <p:cNvSpPr/>
              <p:nvPr/>
            </p:nvSpPr>
            <p:spPr>
              <a:xfrm>
                <a:off x="15429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 name=""/>
              <p:cNvSpPr/>
              <p:nvPr/>
            </p:nvSpPr>
            <p:spPr>
              <a:xfrm>
                <a:off x="1849320" y="2021040"/>
                <a:ext cx="1540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 name=""/>
              <p:cNvSpPr/>
              <p:nvPr/>
            </p:nvSpPr>
            <p:spPr>
              <a:xfrm>
                <a:off x="21574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 name=""/>
              <p:cNvSpPr/>
              <p:nvPr/>
            </p:nvSpPr>
            <p:spPr>
              <a:xfrm>
                <a:off x="24638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 name=""/>
              <p:cNvSpPr/>
              <p:nvPr/>
            </p:nvSpPr>
            <p:spPr>
              <a:xfrm>
                <a:off x="277020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98" name=""/>
            <p:cNvGrpSpPr/>
            <p:nvPr/>
          </p:nvGrpSpPr>
          <p:grpSpPr>
            <a:xfrm>
              <a:off x="3014640" y="0"/>
              <a:ext cx="42840" cy="2055960"/>
              <a:chOff x="3014640" y="0"/>
              <a:chExt cx="42840" cy="2055960"/>
            </a:xfrm>
          </p:grpSpPr>
          <p:sp>
            <p:nvSpPr>
              <p:cNvPr id="99" name=""/>
              <p:cNvSpPr/>
              <p:nvPr/>
            </p:nvSpPr>
            <p:spPr>
              <a:xfrm>
                <a:off x="3014640" y="0"/>
                <a:ext cx="42840" cy="20559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016080" y="189720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016080" y="159084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16080" y="128412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16080" y="97776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016080" y="67140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16080" y="36504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016080" y="5868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PlaceHolder 2"/>
          <p:cNvSpPr>
            <a:spLocks noGrp="1"/>
          </p:cNvSpPr>
          <p:nvPr>
            <p:ph type="dt" idx="4"/>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200400" y="640080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7816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E725-C56E-4A48-B140-C09CD08DFD3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54520" y="625320"/>
            <a:ext cx="440352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100" spc="-1" strike="noStrike">
                <a:solidFill>
                  <a:srgbClr val="000066"/>
                </a:solidFill>
                <a:latin typeface="Book Antiqua"/>
              </a:rPr>
              <a:t>Períodos de la historia de Chile</a:t>
            </a:r>
            <a:endParaRPr b="0" lang="en-US" sz="4100" spc="-1" strike="noStrike">
              <a:solidFill>
                <a:srgbClr val="301800"/>
              </a:solidFill>
              <a:latin typeface="Arial Narrow"/>
            </a:endParaRPr>
          </a:p>
        </p:txBody>
      </p:sp>
      <p:sp>
        <p:nvSpPr>
          <p:cNvPr id="148" name="PlaceHolder 2"/>
          <p:cNvSpPr>
            <a:spLocks noGrp="1"/>
          </p:cNvSpPr>
          <p:nvPr>
            <p:ph type="subTitle"/>
          </p:nvPr>
        </p:nvSpPr>
        <p:spPr>
          <a:xfrm>
            <a:off x="1402920" y="2276640"/>
            <a:ext cx="7489800" cy="3960720"/>
          </a:xfrm>
          <a:prstGeom prst="rect">
            <a:avLst/>
          </a:prstGeom>
          <a:noFill/>
          <a:ln w="0">
            <a:noFill/>
          </a:ln>
        </p:spPr>
        <p:txBody>
          <a:bodyPr lIns="92160" rIns="92160" tIns="46080" bIns="460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10 -1823</a:t>
            </a:r>
            <a:r>
              <a:rPr b="1" lang="es-CL" sz="2800" spc="-1" strike="noStrike">
                <a:solidFill>
                  <a:srgbClr val="614020"/>
                </a:solidFill>
                <a:latin typeface="Book Antiqua"/>
              </a:rPr>
              <a:t>	</a:t>
            </a:r>
            <a:r>
              <a:rPr b="1" lang="es-CL" sz="2800" spc="-1" strike="noStrike">
                <a:solidFill>
                  <a:srgbClr val="614020"/>
                </a:solidFill>
                <a:latin typeface="Book Antiqua"/>
              </a:rPr>
              <a:t>Independencia</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23 -1833</a:t>
            </a:r>
            <a:r>
              <a:rPr b="1" lang="es-CL" sz="2800" spc="-1" strike="noStrike">
                <a:solidFill>
                  <a:srgbClr val="614020"/>
                </a:solidFill>
                <a:latin typeface="Book Antiqua"/>
              </a:rPr>
              <a:t>	</a:t>
            </a:r>
            <a:r>
              <a:rPr b="1" lang="es-CL" sz="2800" spc="-1" strike="noStrike">
                <a:solidFill>
                  <a:srgbClr val="614020"/>
                </a:solidFill>
                <a:latin typeface="Book Antiqua"/>
              </a:rPr>
              <a:t>Ensayos Constitucionales</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33 -1861</a:t>
            </a:r>
            <a:r>
              <a:rPr b="1" lang="es-CL" sz="2800" spc="-1" strike="noStrike">
                <a:solidFill>
                  <a:srgbClr val="614020"/>
                </a:solidFill>
                <a:latin typeface="Book Antiqua"/>
              </a:rPr>
              <a:t>	</a:t>
            </a:r>
            <a:r>
              <a:rPr b="1" lang="es-CL" sz="2800" spc="-1" strike="noStrike">
                <a:solidFill>
                  <a:srgbClr val="614020"/>
                </a:solidFill>
                <a:latin typeface="Book Antiqua"/>
              </a:rPr>
              <a:t>República Autoritaria</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61 -1891</a:t>
            </a:r>
            <a:r>
              <a:rPr b="1" lang="es-CL" sz="2800" spc="-1" strike="noStrike">
                <a:solidFill>
                  <a:srgbClr val="614020"/>
                </a:solidFill>
                <a:latin typeface="Book Antiqua"/>
              </a:rPr>
              <a:t>	</a:t>
            </a:r>
            <a:r>
              <a:rPr b="1" lang="es-CL" sz="2800" spc="-1" strike="noStrike">
                <a:solidFill>
                  <a:srgbClr val="614020"/>
                </a:solidFill>
                <a:latin typeface="Book Antiqua"/>
              </a:rPr>
              <a:t>República Liberal Conservadora</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91 -1925</a:t>
            </a:r>
            <a:r>
              <a:rPr b="1" lang="es-CL" sz="2800" spc="-1" strike="noStrike">
                <a:solidFill>
                  <a:srgbClr val="614020"/>
                </a:solidFill>
                <a:latin typeface="Book Antiqua"/>
              </a:rPr>
              <a:t>	</a:t>
            </a:r>
            <a:r>
              <a:rPr b="1" lang="es-CL" sz="2800" spc="-1" strike="noStrike">
                <a:solidFill>
                  <a:srgbClr val="614020"/>
                </a:solidFill>
                <a:latin typeface="Book Antiqua"/>
              </a:rPr>
              <a:t>Período Parlamentario</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925 -1973</a:t>
            </a:r>
            <a:r>
              <a:rPr b="1" lang="es-CL" sz="2800" spc="-1" strike="noStrike">
                <a:solidFill>
                  <a:srgbClr val="614020"/>
                </a:solidFill>
                <a:latin typeface="Book Antiqua"/>
              </a:rPr>
              <a:t>	</a:t>
            </a:r>
            <a:r>
              <a:rPr b="1" lang="es-CL" sz="2800" spc="-1" strike="noStrike">
                <a:solidFill>
                  <a:srgbClr val="614020"/>
                </a:solidFill>
                <a:latin typeface="Book Antiqua"/>
              </a:rPr>
              <a:t>Presidencial o Democrático</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973 -1990</a:t>
            </a:r>
            <a:r>
              <a:rPr b="1" lang="es-CL" sz="2800" spc="-1" strike="noStrike">
                <a:solidFill>
                  <a:srgbClr val="614020"/>
                </a:solidFill>
                <a:latin typeface="Book Antiqua"/>
              </a:rPr>
              <a:t>	</a:t>
            </a:r>
            <a:r>
              <a:rPr b="1" lang="es-CL" sz="2800" spc="-1" strike="noStrike">
                <a:solidFill>
                  <a:srgbClr val="614020"/>
                </a:solidFill>
                <a:latin typeface="Book Antiqua"/>
              </a:rPr>
              <a:t>Gobierno Militar</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990</a:t>
            </a:r>
            <a:r>
              <a:rPr b="1" lang="es-CL" sz="2800" spc="-1" strike="noStrike">
                <a:solidFill>
                  <a:srgbClr val="614020"/>
                </a:solidFill>
                <a:latin typeface="Book Antiqua"/>
              </a:rPr>
              <a:t>	</a:t>
            </a:r>
            <a:r>
              <a:rPr b="1" lang="es-CL" sz="2800" spc="-1" strike="noStrike">
                <a:solidFill>
                  <a:srgbClr val="614020"/>
                </a:solidFill>
                <a:latin typeface="Book Antiqua"/>
              </a:rPr>
              <a:t>	</a:t>
            </a:r>
            <a:r>
              <a:rPr b="1" lang="es-CL" sz="2800" spc="-1" strike="noStrike">
                <a:solidFill>
                  <a:srgbClr val="614020"/>
                </a:solidFill>
                <a:latin typeface="Book Antiqua"/>
              </a:rPr>
              <a:t>Recuperación Democrática</a:t>
            </a:r>
            <a:endParaRPr b="0" lang="en-US" sz="2800" spc="-1" strike="noStrike">
              <a:solidFill>
                <a:srgbClr val="000000"/>
              </a:solidFill>
              <a:latin typeface="Arial Narrow"/>
            </a:endParaRPr>
          </a:p>
        </p:txBody>
      </p:sp>
      <p:pic>
        <p:nvPicPr>
          <p:cNvPr id="149" name="" descr=""/>
          <p:cNvPicPr/>
          <p:nvPr/>
        </p:nvPicPr>
        <p:blipFill>
          <a:blip r:embed="rId1"/>
          <a:stretch/>
        </p:blipFill>
        <p:spPr>
          <a:xfrm>
            <a:off x="395280" y="189000"/>
            <a:ext cx="2311560" cy="1790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constitucional de 1811.</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14 de agosto de 1811, el Congreso ordenó poner en vigencia un reglamento consittucional que consagra el mismo Congreso como “único depositario de la voluntad del reino”. A él se entregan las relaciones exteriores, el comando del ejército, la creación o suspensión de empleos, el aumento o disminución de sus dotaciones, etc. Para hacer cumplir los acuerdos del Congreso, se instituía una Junta denominada “Autoridad Ejecutiva Provisoria en Chile”, que debía cesar al dictarse la Constitución Política definitiva y en caso de no ocurrir esto pronto, en el término de un año.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s rivalidades políticas que distrajeron a los componenetes del primer Congreso, fueron dilatando la dictación de la Constitución Política. El 13 de Noviembre de 1811 se designó una comisión encargada de redactar el documento, que no alcanzó a cumplir el encargo proque Carrera disolvió el Congrso el 2 de Diciemb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MIGUEL CARRERA 1811-1813/1814</a:t>
            </a:r>
            <a:endParaRPr b="0" lang="en-US" sz="3200" spc="-1" strike="noStrike">
              <a:solidFill>
                <a:srgbClr val="301800"/>
              </a:solidFill>
              <a:latin typeface="Arial Narrow"/>
            </a:endParaRPr>
          </a:p>
        </p:txBody>
      </p:sp>
      <p:sp>
        <p:nvSpPr>
          <p:cNvPr id="167" name="PlaceHolder 2"/>
          <p:cNvSpPr>
            <a:spLocks noGrp="1"/>
          </p:cNvSpPr>
          <p:nvPr>
            <p:ph type="subTitle"/>
          </p:nvPr>
        </p:nvSpPr>
        <p:spPr>
          <a:xfrm>
            <a:off x="1042560" y="2060280"/>
            <a:ext cx="764388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1</a:t>
            </a:r>
            <a:r>
              <a:rPr b="1" lang="es-CL" sz="1800" spc="-1" strike="noStrike">
                <a:solidFill>
                  <a:srgbClr val="000066"/>
                </a:solidFill>
                <a:latin typeface="Book Antiqua"/>
              </a:rPr>
              <a:t>	</a:t>
            </a:r>
            <a:r>
              <a:rPr b="1" lang="es-CL" sz="1800" spc="-1" strike="noStrike">
                <a:solidFill>
                  <a:srgbClr val="614020"/>
                </a:solidFill>
                <a:latin typeface="Book Antiqua"/>
              </a:rPr>
              <a:t>-Abolición parcial de la esclavitud. Se aprueba la libertad de vientres: todos los hijos e hijas de esclavos nacidos en Chile serán libres; el proyecto fue ideado por Manuel de Sal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2</a:t>
            </a:r>
            <a:r>
              <a:rPr b="1" lang="es-CL" sz="1800" spc="-1" strike="noStrike">
                <a:solidFill>
                  <a:srgbClr val="614020"/>
                </a:solidFill>
                <a:latin typeface="Book Antiqua"/>
              </a:rPr>
              <a:t>	</a:t>
            </a:r>
            <a:r>
              <a:rPr b="1" lang="es-CL" sz="1800" spc="-1" strike="noStrike">
                <a:solidFill>
                  <a:srgbClr val="614020"/>
                </a:solidFill>
                <a:latin typeface="Book Antiqua"/>
              </a:rPr>
              <a:t>-Disolución del Congreso creado en 1811.</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glamento constitucional, cuya característica más destacada es la existencia de un artículo que establece que cualquier decreto o ley emanada fuera del territorio de Chile, no tendrá valor y quien intentara dárselo será castigado como reo del Esta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3</a:t>
            </a:r>
            <a:r>
              <a:rPr b="1" lang="es-CL" sz="1800" spc="-1" strike="noStrike">
                <a:solidFill>
                  <a:srgbClr val="000066"/>
                </a:solidFill>
                <a:latin typeface="Book Antiqua"/>
              </a:rPr>
              <a:t>	</a:t>
            </a:r>
            <a:r>
              <a:rPr b="1" lang="es-CL" sz="1800" spc="-1" strike="noStrike">
                <a:solidFill>
                  <a:srgbClr val="614020"/>
                </a:solidFill>
                <a:latin typeface="Book Antiqua"/>
              </a:rPr>
              <a:t>-Publicación del periódico “Aurora de Chile”, con fray Camilo Heríquez como su primer direct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reación de los primeros símbolos patrios: bandera y escudo con los colores blanco, azul y amar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blecimiento de relaciones con Estados Uni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ente a la expedición enviada por el virrey Abascal desde Perú, se crea una nueva Junta de Gobierno, suspendiéndose así la  </a:t>
            </a:r>
            <a:endParaRPr b="0" lang="en-US" sz="1800" spc="-1" strike="noStrike">
              <a:solidFill>
                <a:srgbClr val="000000"/>
              </a:solidFill>
              <a:latin typeface="Arial Narrow"/>
            </a:endParaRPr>
          </a:p>
        </p:txBody>
      </p:sp>
      <p:pic>
        <p:nvPicPr>
          <p:cNvPr id="168" name="" descr=""/>
          <p:cNvPicPr/>
          <p:nvPr/>
        </p:nvPicPr>
        <p:blipFill>
          <a:blip r:embed="rId1"/>
          <a:stretch/>
        </p:blipFill>
        <p:spPr>
          <a:xfrm>
            <a:off x="826920" y="0"/>
            <a:ext cx="1446480" cy="206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16000" y="1828800"/>
            <a:ext cx="7848720" cy="4695840"/>
          </a:xfrm>
          <a:prstGeom prst="rect">
            <a:avLst/>
          </a:prstGeom>
          <a:noFill/>
          <a:ln w="0">
            <a:noFill/>
          </a:ln>
        </p:spPr>
        <p:txBody>
          <a:bodyPr lIns="92160" rIns="92160" tIns="46080" bIns="46080" anchor="t">
            <a:normAutofit fontScale="91000"/>
          </a:bodyPr>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onstitución de 1812; Carrera queda como General en Jefe del</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jercit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La junta declara la libertad de prensa e imprenta, reemplazando a</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la “Aurora de Chile”por “El Monitor Araucan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Fundación del Instituto Nacional en base a la fusión de cuatr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stablecimientos ya existentes.</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reación de la Biblioteca Nacional. Su primer director es don</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Manuel de Salas.</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eparación de Carrera y sus hermanos de todo mando de las tropas;</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la junta nombra a O`Higgins en su reemplazo, con el cargo de</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General en Jefe del Ejércit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spaña inicia el proceso de Reconquista, el que se prolonga hasta </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1817.</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4 </a:t>
            </a:r>
            <a:r>
              <a:rPr b="1" lang="es-CL" sz="1800" spc="-1" strike="noStrike">
                <a:solidFill>
                  <a:srgbClr val="614020"/>
                </a:solidFill>
                <a:latin typeface="Book Antiqua"/>
              </a:rPr>
              <a:t>-El español Francisco de Lastra, enviado por el virrey del Perú, </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asume como Director Suprem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s fuentes del Derecho Constitucional</a:t>
            </a:r>
            <a:endParaRPr b="0" lang="en-US" sz="3200" spc="-1" strike="noStrike">
              <a:solidFill>
                <a:srgbClr val="000000"/>
              </a:solidFill>
              <a:latin typeface="Arial"/>
            </a:endParaRPr>
          </a:p>
        </p:txBody>
      </p:sp>
      <p:sp>
        <p:nvSpPr>
          <p:cNvPr id="171"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Constitucional de 1812</a:t>
            </a:r>
            <a:r>
              <a:rPr b="0" lang="es-ES_tradnl" sz="1600" spc="-1" strike="noStrike">
                <a:solidFill>
                  <a:srgbClr val="000000"/>
                </a:solidFill>
                <a:latin typeface="Book Antiqua"/>
              </a:rPr>
              <a:t>.</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11 de Junio de 1812, el cónsul norteamericano Joel Robert Poinsett, entregó a José Miguel Carrera un proyecto de constitución política. Al mes siguiente hizo otro tanto don Agustín Vial, miembro de la comisión nombrada por el Congreso en 1811. Para el exámen de este último proyecto se designó una comisión por la Junta. En Octubre de 1812 se nombra una nueva Comisión integrada por don Manuel de Salas, don Francisco Antonio Pérez, el padre Camilo Henriquez, don Francisco de la Lastra, don Hipólito Villegas, don Jaime Zudáñez y el consul Joel Robert Poinsett, en cuya casa se reúnen. Aprobado por ellos el proyecto, fue sometido a la ratificación de los vecinos de Santiago por medio de firmas recaudadas en el palacio del Consulado.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Reglamento declara que el pueblo eligirá sus representantes para elaborr una Constitución definitiva bajo la cual reinará Fernando VII. Mientras tanto, “a su nombre gobernará la Junta Superior Gubernativa” compuesta por tres miembros “que sólo duraran tres años, removiéndose uno al fin de cada año, empezando por el menos antiguo”. Se establece un Senado de 7 miembros, por  3 años. Sin el dictamen del Senado la Junta no puede resolver en negocios graves, entendiéndose por tales, entre otors, imponer contribuciones, declarar la guerra, trasladar tropas, firmar la paz, establecer relaciones diplomáticas, etc.</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ropósito de independencia, velado por la declaración de que se reconoce a Fernando VII como rey, fluye claro en el artículo 5, que dispone que “Ningún decreto, providencia u orden que emane de cualquiera autoridad o tribunal de fuera del territorio de Chile tendrá efecto alguno, y los que intentaren darles valor serán castigados como reos del Estado”.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reconoce a todos los habitantes libres de Chile igualdad de derechos y se asegura la libertad de imprenta, sujetando su ejercicio a una reglamentación especial. Esta vino a dictarse en 1813 por la Junta que sucedió a Carrera, disponiéndose que “habrá desde hoy entera y absoluta libertad de imprenta”, sin más limitación que el decoro y la honestidad. La falta a estos principios constituye delito y actúa como jurado una junta de 7 miembros que debe declrar si hay o no abuso. En caso positivo, el responsable pasa a ser juzgado por los tribunales ordinario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Trabajos Jurídicos de don Juan Egaña.</a:t>
            </a:r>
            <a:r>
              <a:rPr b="0" lang="es-ES_tradnl" sz="1600" spc="-1" strike="noStrike">
                <a:solidFill>
                  <a:srgbClr val="000000"/>
                </a:solidFill>
                <a:latin typeface="Book Antiqua"/>
              </a:rPr>
              <a:t>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Formó parte del priemr Congreso Nacional  y éste le designó en la comisión encargada de redactar el proyecto constitucional. Clausurado el Congreso por el golpe de Carrera, Egaña continuó particularmente estudiando la materia y escribió un proyecto constitucional que en 1813 alcanzó el honor de ser publicado por orden de la Junta de Gobierno, para que sirviera de base a la elaboración y estudio de un texto definitiv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este proyecto se sigue de cerca a Rousseau en el origen de la soberanía y en la exposición de los derechos individuales. El gobierno se entrega a un Presidente, dos Cónsules y dos Secretarios (Ministros). Un Tribunal de Censura vela por las buenas costumbres y correcta administración y puede vetar las leyes perjudiciale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Junto al proyecto de Constitución, se publicó también en 1813 una “Declaración de los derechos del pueblo de Chile”, cuyo texto primitivo fue corregido antes de su impresión por orden de la Junta de Gobierno. Se conoce una versión del año anterior, en la que Egaña propicia un Congreso General de la Ámerica española en unión con España, para establecer en perfecta igualdad el sistema de gobierno común; reconoce a Fernando VII y a los sucesores que llamare la Constitución general, y acepta como autoridad interina a las Cortes de España o al gobierno que éstas intalaran como representante del rey cautivo, hasta la reunión del Congreso. El texto publicado en 1813, sufrió diversas modificaciones, que aminoraron hasta casi anular los vínculos aceptados de Chile con España. Los acontecimientos políticos militares de ese año acentuaron el espíritu de independencia que se advierte en la versión publicada por el gobier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Constitucional de 1814</a:t>
            </a:r>
            <a:r>
              <a:rPr b="0" lang="es-ES_tradnl" sz="1600" spc="-1" strike="noStrike">
                <a:solidFill>
                  <a:srgbClr val="000000"/>
                </a:solidFill>
                <a:latin typeface="Book Antiqua"/>
              </a:rPr>
              <a:t>.</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Junta de Gobierno dictó el 3 de Noviembre de 1813 un decreto por el que convocaba a un Congreso llamado a dictar la Constitución Política definitiva de Chile. Sin duda para tomarlo en cuenta como base de discusión, la Junta ordenó imprimir por esos días el proyecto constitucional elaborado por don Juan Egaña en 1811.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desarrollo adverso de la guerra, sobre todo la toma sorpresiva de Talca, produjo un cambio radical en la dirección de los hechos. El 7 de Marzo de 1814, un cabildo abierto de vecinos de Santiago acordó concentrar el poder ejecutivo en una sola mano, titulando al detentador del mando “</a:t>
            </a:r>
            <a:r>
              <a:rPr b="1" i="1" lang="es-ES_tradnl" sz="1600" spc="-1" strike="noStrike">
                <a:solidFill>
                  <a:srgbClr val="000000"/>
                </a:solidFill>
                <a:latin typeface="Book Antiqua"/>
              </a:rPr>
              <a:t>Director Supremo</a:t>
            </a:r>
            <a:r>
              <a:rPr b="0" lang="es-ES_tradnl" sz="1600" spc="-1" strike="noStrike">
                <a:solidFill>
                  <a:srgbClr val="000000"/>
                </a:solidFill>
                <a:latin typeface="Book Antiqua"/>
              </a:rPr>
              <a:t>”, a imitación de lo que acababa de hacerse en las provincias del Río de la Plata. Se confirió la dirección política al general don Francisco de la Lastra, reemplazándole por unos días en el cargo don Antonio José de Irisarri. Una comisión compuesta por don Francisco Antonio Pérez, el padre Camilo Henriquez, don José María de Rozas, don Andrés Nicolás de Orjera y don José Antonio Errazuriz, fue encargada de elaborar un “Reglamento para el gobierno provisorio”, que se promulgó el 7 de marz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l frente del  ejecutivo establecía el Reglamento un Director Supremo en quien se radicaban las “absolutas facultades de la Junta de Gobierno” instituída el 18 de Septiembre de 181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us facultades son amplísimas e ilimitadas, a excepción de tratados de paz, declaraciones de guerra, nuevos establecimientos de comercio y hechos o contribuciones públicas generales, en que necesariamente deberá consultar y acordarse con el Senado. La duración del cargo era de 18 meses y al término de ellas la municipalidad en unión con el Senado acordarían renovar el mandato o proceder a nueva elec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Senado quedaba integrado por 7 miembros elegidos por el Director Supremo de una lista de 21 individuos, formada por las corporaciones (reunión de los Cabildos municipales y eclesiásticos y altos jefes militares y administrativos). Su duración era de dos añ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Tratado de Lircay del 3 de Mayo de 1814</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or mediación del comodoro Ingñes James Hillyar, se celebra a orillas del río Lircay un tratado entre los ejércitos realistas y patriota, actuando de plenipotenciario del primer partido el General don Gabino Gainza y el abogado don José Antonio Rodríguez Aldea y por el segundo, los Generales don Bernardo O’Higgins y don Juan Mackenna y el abogado don Jaime Zudáñez. En el artículo primero se consagran disposiciones de caracter constitucional.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negativa del virrey del Perú a sancionar este tratado – ratificado ya por el Senado chileno – lo tornó ineficaz. El derrocamiento del gobierno de Lastra por la revolución encabezada por Carrera el 23 de Julio de 1814, concluye a su vez con la vigencia del Reglamento provisorio de 1814. La nueva Junta de Gobierno que se instale (José Miguel Carrera, Julian Uribe y Manuel Munoz Urzúa), detenta el poder sin limitaciones hasta el Desastre de Rancagua (1º y 2 de Octubre), que pone término a la Patria Viej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BERNARDO O`HIGGINS RIQUELME  1817-1823</a:t>
            </a:r>
            <a:endParaRPr b="0" lang="en-US" sz="3200" spc="-1" strike="noStrike">
              <a:solidFill>
                <a:srgbClr val="301800"/>
              </a:solidFill>
              <a:latin typeface="Arial Narrow"/>
            </a:endParaRPr>
          </a:p>
        </p:txBody>
      </p:sp>
      <p:sp>
        <p:nvSpPr>
          <p:cNvPr id="178" name="PlaceHolder 2"/>
          <p:cNvSpPr>
            <a:spLocks noGrp="1"/>
          </p:cNvSpPr>
          <p:nvPr>
            <p:ph type="subTitle"/>
          </p:nvPr>
        </p:nvSpPr>
        <p:spPr>
          <a:xfrm>
            <a:off x="1115640" y="2060280"/>
            <a:ext cx="777708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7</a:t>
            </a:r>
            <a:r>
              <a:rPr b="1" lang="es-CL" sz="1800" spc="-1" strike="noStrike">
                <a:solidFill>
                  <a:srgbClr val="614020"/>
                </a:solidFill>
                <a:latin typeface="Book Antiqua"/>
              </a:rPr>
              <a:t>	</a:t>
            </a:r>
            <a:r>
              <a:rPr b="1" lang="es-CL" sz="1800" spc="-1" strike="noStrike">
                <a:solidFill>
                  <a:srgbClr val="614020"/>
                </a:solidFill>
                <a:latin typeface="Book Antiqua"/>
              </a:rPr>
              <a:t>-Superado el período de la Reconquista, la aristocracia nombra 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Bernardo O`Higgins Jefe Supremo del Esta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Inauguración del alumbrado públi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reto de abolición de los títulos de nobleza, escudos de armas e insignias nobiliarias. En su lugar se crea la Legión del Mérito, que reemplaza el honor heredado por el honor adquiri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bolición de los mayorazg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8</a:t>
            </a:r>
            <a:r>
              <a:rPr b="1" lang="es-CL" sz="1800" spc="-1" strike="noStrike">
                <a:solidFill>
                  <a:srgbClr val="614020"/>
                </a:solidFill>
                <a:latin typeface="Book Antiqua"/>
              </a:rPr>
              <a:t>	</a:t>
            </a:r>
            <a:r>
              <a:rPr b="1" lang="es-CL" sz="1800" spc="-1" strike="noStrike">
                <a:solidFill>
                  <a:srgbClr val="614020"/>
                </a:solidFill>
                <a:latin typeface="Book Antiqua"/>
              </a:rPr>
              <a:t>-El </a:t>
            </a:r>
            <a:r>
              <a:rPr b="1" i="1" lang="es-CL" sz="1800" spc="-1" strike="noStrike">
                <a:solidFill>
                  <a:srgbClr val="614020"/>
                </a:solidFill>
                <a:latin typeface="Book Antiqua"/>
              </a:rPr>
              <a:t>12 de febrero</a:t>
            </a:r>
            <a:r>
              <a:rPr b="1" lang="es-CL" sz="1800" spc="-1" strike="noStrike">
                <a:solidFill>
                  <a:srgbClr val="614020"/>
                </a:solidFill>
                <a:latin typeface="Book Antiqua"/>
              </a:rPr>
              <a:t> se promulga el acta de la declaración de la Independenc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n Tiltil es fusilado Manuel Rodríguez bajo pretexto de intento de fuga cuando era trasladado a Quillota, por  órdenes de O`Higgin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ormación de la primera Escuadra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9</a:t>
            </a:r>
            <a:r>
              <a:rPr b="1" lang="es-CL" sz="1800" spc="-1" strike="noStrike">
                <a:solidFill>
                  <a:srgbClr val="614020"/>
                </a:solidFill>
                <a:latin typeface="Book Antiqua"/>
              </a:rPr>
              <a:t>	</a:t>
            </a:r>
            <a:r>
              <a:rPr b="1" lang="es-CL" sz="1800" spc="-1" strike="noStrike">
                <a:solidFill>
                  <a:srgbClr val="614020"/>
                </a:solidFill>
                <a:latin typeface="Book Antiqua"/>
              </a:rPr>
              <a:t>-Reapertu.ra del Instituto Nacional</a:t>
            </a:r>
            <a:endParaRPr b="0" lang="en-US" sz="1800" spc="-1" strike="noStrike">
              <a:solidFill>
                <a:srgbClr val="000000"/>
              </a:solidFill>
              <a:latin typeface="Arial Narrow"/>
            </a:endParaRPr>
          </a:p>
        </p:txBody>
      </p:sp>
      <p:pic>
        <p:nvPicPr>
          <p:cNvPr id="179" name="" descr=""/>
          <p:cNvPicPr/>
          <p:nvPr/>
        </p:nvPicPr>
        <p:blipFill>
          <a:blip r:embed="rId1"/>
          <a:stretch/>
        </p:blipFill>
        <p:spPr>
          <a:xfrm>
            <a:off x="611280" y="0"/>
            <a:ext cx="156996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16000" y="1844640"/>
            <a:ext cx="7416720" cy="46800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TEO DE TORO Y ZAMBRANO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10</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SE MIGUEL CARRERA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11-1814</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BERNARDO O`HIGGINS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17-1823</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RAMON FREIRE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23-182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NUEL BLANCO ENCALADA </a:t>
            </a:r>
            <a:r>
              <a:rPr b="0" lang="es-CL" sz="1800" spc="-1" strike="noStrike">
                <a:solidFill>
                  <a:srgbClr val="614020"/>
                </a:solidFill>
                <a:latin typeface="Book Antiqua"/>
              </a:rPr>
              <a:t>(PDTE)</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2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FRANCISCO ANTONIO PINT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27-1829</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AQUIN PRIETO VIAL</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31-184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NUEL BULNE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41-185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NUEL MONTT</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51-186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SE JOAQUIN PEREZ</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61-187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FEDERICO ERRAZURIZ ZAÑARTU</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71-187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NIBAL PINT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76-188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DOMINGO SANTA MARI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81-188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SE MANUEL BALMACED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86-1891</a:t>
            </a:r>
            <a:endParaRPr b="0" lang="en-US" sz="1800" spc="-1" strike="noStrike">
              <a:solidFill>
                <a:srgbClr val="000000"/>
              </a:solidFill>
              <a:latin typeface="Arial Narrow"/>
            </a:endParaRPr>
          </a:p>
        </p:txBody>
      </p:sp>
      <p:sp>
        <p:nvSpPr>
          <p:cNvPr id="151" name=""/>
          <p:cNvSpPr/>
          <p:nvPr/>
        </p:nvSpPr>
        <p:spPr>
          <a:xfrm>
            <a:off x="1763640" y="333360"/>
            <a:ext cx="57913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Book Antiqua"/>
              </a:rPr>
              <a:t>Gobernantes y Presidentes de Chi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115640" y="1828440"/>
            <a:ext cx="7777080" cy="4768920"/>
          </a:xfrm>
          <a:prstGeom prst="rect">
            <a:avLst/>
          </a:prstGeom>
          <a:noFill/>
          <a:ln w="0">
            <a:noFill/>
          </a:ln>
        </p:spPr>
        <p:txBody>
          <a:bodyPr lIns="92160" rIns="92160" tIns="46080" bIns="46080" anchor="t">
            <a:normAutofit fontScale="96000"/>
          </a:bodyPr>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0</a:t>
            </a:r>
            <a:r>
              <a:rPr b="1" lang="es-CL" sz="1800" spc="-1" strike="noStrike">
                <a:solidFill>
                  <a:srgbClr val="000066"/>
                </a:solidFill>
                <a:latin typeface="Book Antiqua"/>
              </a:rPr>
              <a:t>	</a:t>
            </a:r>
            <a:r>
              <a:rPr b="1" lang="es-CL" sz="1800" spc="-1" strike="noStrike">
                <a:solidFill>
                  <a:srgbClr val="614020"/>
                </a:solidFill>
                <a:latin typeface="Book Antiqua"/>
              </a:rPr>
              <a:t>-Reapertura de la Biblioteca Nacional, ubicada en Compañía</a:t>
            </a:r>
            <a:r>
              <a:rPr b="1" lang="es-CL" sz="2000" spc="-1" strike="noStrike">
                <a:solidFill>
                  <a:srgbClr val="614020"/>
                </a:solidFill>
                <a:latin typeface="Book Antiqua"/>
              </a:rPr>
              <a:t> </a:t>
            </a:r>
            <a:r>
              <a:rPr b="1" lang="es-CL" sz="1800" spc="-1" strike="noStrike">
                <a:solidFill>
                  <a:srgbClr val="614020"/>
                </a:solidFill>
                <a:latin typeface="Book Antiqua"/>
              </a:rPr>
              <a:t>esquina de Bandera, donde había funcionado la Primera Junta de Gobiern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blecimiento del Mercado de Abastos, donde actualmente se ubica el Mercado Central, antes basural municipal del Mapoch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1</a:t>
            </a:r>
            <a:r>
              <a:rPr b="1" lang="es-CL" sz="1800" spc="-1" strike="noStrike">
                <a:solidFill>
                  <a:srgbClr val="000066"/>
                </a:solidFill>
                <a:latin typeface="Book Antiqua"/>
              </a:rPr>
              <a:t>	</a:t>
            </a:r>
            <a:r>
              <a:rPr b="1" lang="es-CL" sz="1800" spc="-1" strike="noStrike">
                <a:solidFill>
                  <a:srgbClr val="614020"/>
                </a:solidFill>
                <a:latin typeface="Book Antiqua"/>
              </a:rPr>
              <a:t>-Creación del Cementerio General</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José Miguel Carrera es fusilado en Mendoza. Tres años antes, en 1818, habían sido fusilados sus hermanos Juan José y Luis bajo el cargo de llevar la discordia a su país.</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reto de término de las peleas de gallos y corridas de tor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ormación de la Expedición Libertadora del Perú.</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2</a:t>
            </a:r>
            <a:r>
              <a:rPr b="1" lang="es-CL" sz="1800" spc="-1" strike="noStrike">
                <a:solidFill>
                  <a:srgbClr val="000066"/>
                </a:solidFill>
                <a:latin typeface="Book Antiqua"/>
              </a:rPr>
              <a:t>	</a:t>
            </a:r>
            <a:r>
              <a:rPr b="1" lang="es-CL" sz="1800" spc="-1" strike="noStrike">
                <a:solidFill>
                  <a:srgbClr val="614020"/>
                </a:solidFill>
                <a:latin typeface="Book Antiqua"/>
              </a:rPr>
              <a:t>-Establecimiento de un sistema de diligencias o coches de pasajeros entre Santiago y Valparaíso, autorizando un servicio de correo diario entre ambos puntos.</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3</a:t>
            </a:r>
            <a:r>
              <a:rPr b="1" lang="es-CL" sz="1800" spc="-1" strike="noStrike">
                <a:solidFill>
                  <a:srgbClr val="614020"/>
                </a:solidFill>
                <a:latin typeface="Book Antiqua"/>
              </a:rPr>
              <a:t>	</a:t>
            </a:r>
            <a:r>
              <a:rPr b="1" lang="es-CL" sz="1800" spc="-1" strike="noStrike">
                <a:solidFill>
                  <a:srgbClr val="614020"/>
                </a:solidFill>
                <a:latin typeface="Book Antiqua"/>
              </a:rPr>
              <a:t>-Luego de una revolución encabezada en Concepción por Ramón Freire, se reúne en Santiago un Cabildo Abierto que pide la renuncia al Director Supremo Bernardo O`Higgins.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18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cta de Declaración de la Independencia de Chile</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Una comisión compuesta por don Miguel Zañartu, don Juan Egaña, don Manuel de Salas y don Bernardo de Vera, redactó el proyecto que sufrió pequeñas ampliaciones de la mano de O’Higgins. Hay antecedentes para creer asímismo que tuvo intervención en el texto por Bernardo Monteagudo. El acta aparece fechada en </a:t>
            </a:r>
            <a:r>
              <a:rPr b="1" lang="es-ES_tradnl" sz="1600" spc="-1" strike="noStrike">
                <a:solidFill>
                  <a:srgbClr val="000000"/>
                </a:solidFill>
                <a:latin typeface="Book Antiqua"/>
              </a:rPr>
              <a:t>Concepción</a:t>
            </a:r>
            <a:r>
              <a:rPr b="0" lang="es-ES_tradnl" sz="1600" spc="-1" strike="noStrike">
                <a:solidFill>
                  <a:srgbClr val="000000"/>
                </a:solidFill>
                <a:latin typeface="Book Antiqua"/>
              </a:rPr>
              <a:t> el </a:t>
            </a:r>
            <a:r>
              <a:rPr b="1" lang="es-ES_tradnl" sz="1600" spc="-1" strike="noStrike">
                <a:solidFill>
                  <a:srgbClr val="000000"/>
                </a:solidFill>
                <a:latin typeface="Book Antiqua"/>
              </a:rPr>
              <a:t>1º de Enero de 1818</a:t>
            </a:r>
            <a:r>
              <a:rPr b="0" lang="es-ES_tradnl" sz="1600" spc="-1" strike="noStrike">
                <a:solidFill>
                  <a:srgbClr val="000000"/>
                </a:solidFill>
                <a:latin typeface="Book Antiqua"/>
              </a:rPr>
              <a:t>, pero fué firmada por O’Higgins en </a:t>
            </a:r>
            <a:r>
              <a:rPr b="1" lang="es-ES_tradnl" sz="1600" spc="-1" strike="noStrike">
                <a:solidFill>
                  <a:srgbClr val="000000"/>
                </a:solidFill>
                <a:latin typeface="Book Antiqua"/>
              </a:rPr>
              <a:t>Talca</a:t>
            </a:r>
            <a:r>
              <a:rPr b="0" lang="es-ES_tradnl" sz="1600" spc="-1" strike="noStrike">
                <a:solidFill>
                  <a:srgbClr val="000000"/>
                </a:solidFill>
                <a:latin typeface="Book Antiqua"/>
              </a:rPr>
              <a:t> el </a:t>
            </a:r>
            <a:r>
              <a:rPr b="1" lang="es-ES_tradnl" sz="1600" spc="-1" strike="noStrike">
                <a:solidFill>
                  <a:srgbClr val="000000"/>
                </a:solidFill>
                <a:latin typeface="Book Antiqua"/>
              </a:rPr>
              <a:t>2 de Febrero</a:t>
            </a:r>
            <a:r>
              <a:rPr b="0" lang="es-ES_tradnl" sz="1600" spc="-1" strike="noStrike">
                <a:solidFill>
                  <a:srgbClr val="000000"/>
                </a:solidFill>
                <a:latin typeface="Book Antiqua"/>
              </a:rPr>
              <a:t> y jurada en todas las ciudades ya libres, el </a:t>
            </a:r>
            <a:r>
              <a:rPr b="1" lang="es-ES_tradnl" sz="1600" spc="-1" strike="noStrike">
                <a:solidFill>
                  <a:srgbClr val="000000"/>
                </a:solidFill>
                <a:latin typeface="Book Antiqua"/>
              </a:rPr>
              <a:t>12 de Febrero</a:t>
            </a:r>
            <a:r>
              <a:rPr b="0" lang="es-ES_tradnl" sz="1600" spc="-1" strike="noStrike">
                <a:solidFill>
                  <a:srgbClr val="000000"/>
                </a:solidFill>
                <a:latin typeface="Book Antiqua"/>
              </a:rPr>
              <a:t>, primer aniversario de la batalla de Chacabuc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acta declara que “</a:t>
            </a:r>
            <a:r>
              <a:rPr b="1" i="1" lang="es-ES_tradnl" sz="1600" spc="-1" strike="noStrike">
                <a:solidFill>
                  <a:srgbClr val="000000"/>
                </a:solidFill>
                <a:latin typeface="Book Antiqua"/>
              </a:rPr>
              <a:t>el territorio continental de Chile y sus islas adyacentes, dorman, de hecho y por derecho, un Estado libre, independiente y soberano, y quedan para siempre separados de la monarquía de España y de cualquiera dominación, con plena aptitud de adoptar la forma de Gobierno que más convenga a sus intereses</a:t>
            </a:r>
            <a:r>
              <a:rPr b="0" lang="es-ES_tradnl" sz="1600" spc="-1" strike="noStrike">
                <a:solidFill>
                  <a:srgbClr val="000000"/>
                </a:solidFill>
                <a:latin typeface="Book Antiqua"/>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Plan de Hacienda y de Administración Pública</a:t>
            </a:r>
            <a:r>
              <a:rPr b="0" lang="es-ES_tradnl"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 pedido y bajo la dirección Del Ministro de Hacienda don Hipólito de Villegas, el Ministro-Contador de la Tesorería General, don Rafael Correa de Saa redactó un código administrativo compuesto de 240 artículos, que fue revisado por el fiscal don José Gregorio Argomedo, el jurista don Juan Egaña y el general y el San Martín, que a su vez lo consultó con Don Bernardo Vera y el agente de Buenos Aires don Tomás Guido. El plan fué aprobado en carácter interino por Director delegado Don Hilarión de la Quintana, por decreto de 2 de Septiembre de 1817 y remitido a O’Higgins al sur para su ratificación o reforma. Se ignora si ocurrieron algunas de estas dos circunstanci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nstituye este plan el primer ensayo en la historia republicana de Chile de un código de régimen interior de estatuto administrativo y hasta de constitución política. Se reglamentan allí los organismos encargados del control de los ingresos públicos y se delinean en seguida, las funciones de las autoridades políticas y administrativas. La plenitud del poder se entrega al Supremo Gobierno “nombrado por la libre voluntad de los pueblos”, aunque sin esècofocarse la forma concreta en que se realizará esta elección y menos aun la duración del mandato. Sus facultades sólo tienen un límite que viene a servir de base a las garantías individuales y que el Plan reconoce al declarar que “el Gobierno se desprende del Poder Judicial”, añadiendo que “ningún ciudadano podrá ser juzgado sino por los Tribunales de Justicia legalmente establecid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La Constitución provisoria de 1818</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 raíz del fusilamiento de don Juan José y don Luís Carrera, el cabildo de Santiago, en representación del pueblo, elevó el 17 de abril de 1818 diversas peticiones al Director Supremo, con la mira de reducir y reglamentar sus facultades, hasta entonces omnímodas. Entre otras cosas, se solicitó de O’Higgins la convocatoria inmediata a un Congreso para elegir el Gobierno definitivo, y la dictación de un Reglamento provisorio en el que se deslindaran los atributos del poder. No prestó O’Higgins inmediata acogida a estas pediciones, pero un mes después designó una comisión compuesta por don Manuel de Salas, don Francisco Antonio Pérez, don Joaquín Gandarillas, don josé Ignacio Cienfuegos, don José María Villareal, don josé María de Rozas y don Lorenzo Villalón, para redactar un proyecto de Constitución política. Ella, una vez promulgada, tendría el carácter de provisoria regiría hasta la convocación de un Congreso, hecho al cual no se fijaba plaz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royecto quedó terminado en Agosto del mismo año y fué sometido a la aprobación de un plesbicito, abriéndose para ello dos libros de firmas en las parroquias de las ciudades ya libres, medio que ya se había empleado para sancionar el acta de declaración de independencia. Simultáneamente con el texto constitucional se sometía a aprobación el nombre de los componentes del futuro Sen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estaba dividida en 5 títulos. El primero enumerba las garantías individuales y el segundo declaraba a la religión católica como “única y exclusiva del Estado de Chile”, no permitiendo “otro culto ni doctrina contraria a la de Jesucristo”. El título tercero entregaba la Potestad Legislativa a un Senado elegido por el Director Supremo, compuesto de 5 miembros titulares y de 5 suplentes. Es facultad especialísima del Senado velar por la puntual observancia de la Constitución. Además, sin su acuerdo, no se podrán “imponer contribuciones, pedir empréstitos, declarar la guerra, hacer la paz, formar tratados de alianza, comercio, neutralidad; mandar embajadores, cónsules, diputados o enviados a potencias extranjeras; levantar nuevas tropas o mandarlas fuera del Estado, emprender obras públicas y crear nuevas autoridades o empleos”. Las resoluciones del Senado pueden ser votadas por el Director dentro del término de 8 días, pero si aquel insiste por tercera vez en su acuerdo el Director deberá promulgarl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título IV se ocupa del Poder Ejecutivo que lo entrega en Manos del Director Supremo. Corresponde al Director el mando de las Fuerzas Armadas, la recaudación e inversión de los fondos públicos, el nombramiento de los Ministros (Gobierno, Hacienda, Guerra), la mantención de las relaciones internacionales y el nombramiento de los empleados públic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Título V reglamenta el Poder Judicial, confiándolo a un Supremo Tribunal Judiciario, elegido por el Director, a la Cámara de Apelaciones y a los distintos Juzgados establecidos a lo largo del territori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unque la Constitución no tenía más objetivo que reforzar legalmente los poderes omnímodos del Director, el Senado brotado de sus manos tuvo independencia suficiente como para resistir con energías las demasías de su voluntad. Una larga polémica se entablo entre ambas potestades, hasta que O’Higgins, el 7 de Mayo de 1822, dio término a la existencia del Senado convocando a elecciones para una Asamble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25 de Julio de 1822 se inauguró la llamada “convención preparatoria”, en el nombramiento de cuyos miembros intervino resueltamente O’Higgins por conducto de las autoridades locales. Ante ella renunció el Directo al mando, siendo su dimisión rechazada. A pedido del gobierno se ocupó la asamblea de estudiar un proyecto de Constitución definitiva que le fue presentado el 7 de Octubre por la Comisión de legislación y que tenía como verdadero autor al Ministro don José Antonio Rodróguez Aldea. Apenas unos días después, el 23 de Octubre, estaba del todo despachado su estudio por la Convención, promulgándose solemnemente el 30 del mismo mes. En un manifiesto lanzado por la Convención se dice que la Carta Política tuvo como principal fuente inspiradora a la vigente en los Estados Unidos, lo que en realidad no es efectivo pues Rodríguez Aldea, se ciñó casi totalmente al texto y estructura de la Constitución española promulgada en 1812 por las Cortes de Cádiz y utilizó también algunas disposiciones de la Constitución Provisoria de 1818.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ejecutivo se confiaba al Director Supremo, cuya duración era de 6 años, pudiendo ser elegido por otros 4. El nombramiento correspondía al Congreso Pleno, añadiéndose, eso sí, que se tendría por primera elección la recién practicada por la Conversión en la persona de O’Higgins, con lo que a los cinco años ya transcurridos de dictadura se agregaba la perspectiva de otros 1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legislativo era entregado a un Senado y una Cámara de Diputados. Formaban el Senado los Ministros de Estado, Obispos con Jurisdicción en Chile, un representante del Supremo Tribunal de Justicia, tres jefes militares de alta graduación, un Doctor por cada Universidad, dos comerciantes y dos hacendados de capital no inferior a 30.000 pesos, y los ex-Directores. La Cámara de Diputados era designada por electores sorteados en cada circunscripción municipal en número de uno por cada 1.000 habitantes. Reunidos en la cabecera de departamento estos electores, debían proceder a nombrar un diputado por cada 15.000 habitant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receso del Congreso funcionaba la llamada “Corte de Representantes”, y que estaba integrada por 7 individuos elegidos por la Cámara de Diputados y los ex-Director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instituyó la llamada “Regencia”, compuesta de 3 personas designadas en un sobre cerrado por el Director Supremo para sucederle conjuntamente en caso de fallecimient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bolió la antigua organización administrativa en tres provincias, dividiéndose, en cambio, el territorio en departamentos a cargo de un Delegado directorial elegido por el Director con acuerdo del Congreso. El propósito de esta medida era ahogar los despuntes autonomistas de las provinci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judicial quedaba encabezado por un Tribunal Supremo de Justicia y una Cámara de Apelaciones. El primero presentaba terna al Director Supremo para la elección de sus miembr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atribuída a manejos del impopular Rodríguez Aldea para perpetrar indefinidamente a O’Higgins en el mando, tuvo escasa vigencia. 5 meses después de ser dictada, desaparecía con todo el régim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RAMON FREIRE Y SERRANO  1823-1826</a:t>
            </a:r>
            <a:endParaRPr b="0" lang="en-US" sz="3200" spc="-1" strike="noStrike">
              <a:solidFill>
                <a:srgbClr val="301800"/>
              </a:solidFill>
              <a:latin typeface="Arial Narrow"/>
            </a:endParaRPr>
          </a:p>
        </p:txBody>
      </p:sp>
      <p:sp>
        <p:nvSpPr>
          <p:cNvPr id="191" name="PlaceHolder 2"/>
          <p:cNvSpPr>
            <a:spLocks noGrp="1"/>
          </p:cNvSpPr>
          <p:nvPr>
            <p:ph type="subTitle"/>
          </p:nvPr>
        </p:nvSpPr>
        <p:spPr>
          <a:xfrm>
            <a:off x="1042920" y="2060280"/>
            <a:ext cx="7850160" cy="453708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3</a:t>
            </a:r>
            <a:r>
              <a:rPr b="1" lang="es-CL" sz="1800" spc="-1" strike="noStrike">
                <a:solidFill>
                  <a:srgbClr val="000066"/>
                </a:solidFill>
                <a:latin typeface="Book Antiqua"/>
              </a:rPr>
              <a:t>	</a:t>
            </a:r>
            <a:r>
              <a:rPr b="1" lang="es-CL" sz="1800" spc="-1" strike="noStrike">
                <a:solidFill>
                  <a:srgbClr val="614020"/>
                </a:solidFill>
                <a:latin typeface="Book Antiqua"/>
              </a:rPr>
              <a:t>-Formación de una Junta de Gobierno que otorga el mando del</a:t>
            </a:r>
            <a:r>
              <a:rPr b="1" lang="es-CL" sz="1800" spc="-1" strike="noStrike">
                <a:solidFill>
                  <a:srgbClr val="614020"/>
                </a:solidFill>
                <a:latin typeface="Book Antiqua"/>
              </a:rPr>
              <a:t>	</a:t>
            </a:r>
            <a:r>
              <a:rPr b="1" lang="es-CL" sz="1800" spc="-1" strike="noStrike">
                <a:solidFill>
                  <a:srgbClr val="614020"/>
                </a:solidFill>
                <a:latin typeface="Book Antiqua"/>
              </a:rPr>
              <a:t> gobierno al general Ramón Frei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reto de abolición total de la esclavitud, medida inspirado por José Miguel Infa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romulgación de la Carta Constitucional, cuyo principal redactor es Juan Egaña. Algunas de sus características son: establecer el sufragio censitario y la obligatoriedad de la religión católica. Su particularidad consiste en el intento de reglamentar la vida privada de los individuos, por lo cual es conocida como “Constitución Moral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4</a:t>
            </a:r>
            <a:r>
              <a:rPr b="1" lang="es-CL" sz="1800" spc="-1" strike="noStrike">
                <a:solidFill>
                  <a:srgbClr val="000066"/>
                </a:solidFill>
                <a:latin typeface="Book Antiqua"/>
              </a:rPr>
              <a:t>	</a:t>
            </a:r>
            <a:r>
              <a:rPr b="1" lang="es-CL" sz="1800" spc="-1" strike="noStrike">
                <a:solidFill>
                  <a:srgbClr val="614020"/>
                </a:solidFill>
                <a:latin typeface="Book Antiqua"/>
              </a:rPr>
              <a:t>-Inicio de la reconquista del territorio de Chiloé, que se encontraba aún en poder de los españo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acaso de la misión Muzi. Esta había sido solicitada por O`Higgins para lograr el reconocimiento de Chile como nación independiente, así como la concesión del patronato. Debido a la </a:t>
            </a:r>
            <a:endParaRPr b="0" lang="en-US" sz="1800" spc="-1" strike="noStrike">
              <a:solidFill>
                <a:srgbClr val="000000"/>
              </a:solidFill>
              <a:latin typeface="Arial Narrow"/>
            </a:endParaRPr>
          </a:p>
        </p:txBody>
      </p:sp>
      <p:pic>
        <p:nvPicPr>
          <p:cNvPr id="192" name="" descr=""/>
          <p:cNvPicPr/>
          <p:nvPr/>
        </p:nvPicPr>
        <p:blipFill>
          <a:blip r:embed="rId1"/>
          <a:stretch/>
        </p:blipFill>
        <p:spPr>
          <a:xfrm>
            <a:off x="826920" y="0"/>
            <a:ext cx="1495440" cy="198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16000" y="1844640"/>
            <a:ext cx="7416720" cy="4680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RGE MONTT</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91-189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FEDERICO ERRAZURIZ ECHAURREN</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96-1901</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GERMAN RIESCO ERRAZURIZ</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01-190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PEDRO MONTT Y MONTT</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06-191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RAMON BARROS LUC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10-1915</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UAN LUIS SANFUENTE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15-192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RTURO ALESSANDRI PALM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20-1925</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EMILIANO FIGUERO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25-1927</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CARLOS IBAÑEZ DEL CAMP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27-1931</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LUIS ESTEBAN MONTER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1-193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RMADUQUE GROVE</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CARLOS DAVIL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RTURO ALESSANDRI PALM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2-1938</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PEDRO AGUIRRE CERD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8-19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042920" y="1828440"/>
            <a:ext cx="7850160" cy="4768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forma de las órdenes religiosas y a la confiscación de bienes de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lero regular, medidas establecidas por el gobierno de Chile, l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relaciones con la Santa Sede se rompieron, desconociendo ésta l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xistencia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6</a:t>
            </a:r>
            <a:r>
              <a:rPr b="1" lang="es-CL" sz="1800" spc="-1" strike="noStrike">
                <a:solidFill>
                  <a:srgbClr val="614020"/>
                </a:solidFill>
                <a:latin typeface="Book Antiqua"/>
              </a:rPr>
              <a:t>	</a:t>
            </a:r>
            <a:r>
              <a:rPr b="1" lang="es-CL" sz="1800" spc="-1" strike="noStrike">
                <a:solidFill>
                  <a:srgbClr val="614020"/>
                </a:solidFill>
                <a:latin typeface="Book Antiqua"/>
              </a:rPr>
              <a:t>- Tratado de Tantauco, que incorpora la provincia de Chiloé 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territorio Chile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otorga a la casa comercial Portales, Cea y Cia.   el monopolio de la venta del tabaco, los naipes, el té y los licores extranjeros, a cambio del pago de dividendos, lo cual no da resulta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eire renuncia a su cargo ante un nuevo Congreso elegido ese año.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19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orgánico de la Junta de Gobierno de 1823</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Fue dictado el 29 de Febrero de 1823 por la Junta que sucedió a O’Higgins, redactándolo una Comisión compuesta de Juan Egaña, Bernmardo Vera y Joaquin Campino. La Junta durará el tñermino necesario para acordar con los representantes de las provincias la instalación del Gobierno central provisorio que debe convocar a un Congreso. Tiene ella </a:t>
            </a:r>
            <a:r>
              <a:rPr b="0" i="1" lang="es-ES_tradnl" sz="1600" spc="-1" strike="noStrike">
                <a:solidFill>
                  <a:srgbClr val="000000"/>
                </a:solidFill>
                <a:latin typeface="Book Antiqua"/>
              </a:rPr>
              <a:t>“todas las facultades necesarias para conservar el orden interior y la seguridad exterior”</a:t>
            </a:r>
            <a:r>
              <a:rPr b="0" lang="es-ES_tradnl" sz="1600" spc="-1" strike="noStrike">
                <a:solidFill>
                  <a:srgbClr val="000000"/>
                </a:solidFill>
                <a:latin typeface="Book Antiqua"/>
              </a:rPr>
              <a:t>. Se le prohíbe concoer de aunto alguno contencioso, civil ni criminal. Se hace efectiva la libertad de imprenta bajo el reglamento de 1813. Además se declaran vigentes todas las leyes que existían hasta la extinción del Senado por O’Higgins, quedando así en suspenso la Constitución de 1822. La Junta estaría asesorada de un Consejo de 13 miembros nombrados por ella mism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l acta de unión de las provincias de 1823</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stimando que la Junta sucesora de O’Higgins representaba sólo a Santiago, las provincias no reconocieron su autoridad. Después de diversos trámites se convino en que 3 plenipotenciarios, en nombre de las provincias de Coquinbo, Santiago y Concepción, acordaran la definitiva Constitución del gobierno. Tuvieron esta misión don Manuel Antonio González, don juan Egaña y don Manuel Novoa, respectivamente, y el 30 de Marzo de 1823 formaron el “Acta de unión de las provincias”, reglamento constitucional que debía regir hasta la próxima reunión de un Congres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Radicaba el Acta el mando provisorio en un Director Supremo asesorado de un Senado, al que se daban las mismas atribuciones del creado por la Constitución de 1818. Convocaba, enseguida, a un Congreso encargado de elegir en propiedad al Director Supremo y al Senado, y elaborar una Constitu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l siguiente día de firmada el acta los plenipotenciarios nombraban Director Supremo a don Ramón Freire, que fue ratificado pocos meses más tardes en el cargo, en carácter definitivo, por el nuevo Congres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La Constitución de 1823</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royecto elaborado por don Juan Egaña fue sometido al Congreso y aprobado por éste con escasas modificaciones. No tuvo mayor acogida otro proyecto presentado a la Asamblea por el diputado fray Pedro Arce. La Constitución fue promulgada el 29 de Diciembre de 182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mienza por declarar que el Estado de Chile es uno e indivisible, que la soberanía reside en la nación y el ejercicio de ella en sus representantes. Da poco después el carácter de ciudadanos activos a los que tienen indistintamente una propiedad inmueble de 200 pesos, un giro o comercio propio de 500 pesos, el domicilio o profesión intruída en fábricas permanentes, o hubiesen traído al país alguna actividad que el Gobierno califique de úti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ejercicio del poder Ejecutivo pertenece al Director Supremo, que dura 4 años, pudiendo reelegirse por las dos terceras partes de los sufragios. Deb tener 30 años de edad y ser benemérico en grado heróico. Sus atribuciones son ámplias, destacándose entre las exclusivas: la iniciativa y promulgación de las leyes, organizar las fuerzas de mar y tierra, nombrar los ministros del despacho y removerlos sin expresión de causa, velar por la conducta ministerial de los jueces, iniciar los tratados con las potencias extranjeras. Debe oir al Consejo de Estado (que componen dos Ministros de la Corte Suprema, un eclesiástico, un jefe militar, un inspector de rentas fiscales, dos directores de economía nacional y todos los ex-Directores Supremos), en todos los proyectos de ley antes de su envío al Senado y en el nombramiento de Ministr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instituyó un “Senado Conservador y Legislador”, compuesto de 9 miembros elegidos cada 6 años. Entre sus atribuciones se hallan: sancionar las leyes que propone el Director o suspender su sanción hasta oir el dictamen de la Cámara Nacional, suspender momentáneamente lod actos ejecutivos del Director que envuelvan violación de las leyes o graves resultas, velar por las costumbres y moralidad nacional llevando para ello un registro de los servicios y virtudes de cada ciudadano, para proponer de allí a los “beneméritos” a la Cámara Nacional. Cada año un Senador visitará algunas de las provincias para indagar el estado de la moralidad y civismo de los ciudadanos, el desempeño de los funcionarios públicos y de la administración de justici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Ocasionalmente se reúne una “Camara Nacional” integrada por los “consultores nacionales”, no inferiores en número a cincuenta ni superiores a doscientos, y que se eligen por sorteo entre los “consultores” nombrados cada 8 años por las Asambleas electorales. Se dá este nombre a la circunscripción parroquial o municipal que comprende por lo menos 200 ciudadanos, de los cuales por medio de sorteo se deja una mitad que es la que tiene derecho a voto en las elecciones de funcionarios, censura de ellos o calificación de beneméritos. Nadie puede ser elegido para un cargo público si no posee el “mérito cívico”, y debe ser “benemérico en grado heróico” para ejercer el mando como Director Suprem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ámara Nacional”, que es una asamblea momentánea, es convocada automáticamente cuando el Senado y el Director Supremo se encuentran en conflicto por el veto suspensivo que uno haya hecho de las resoluciones del otro. También se reúne para aprobar o reprobar la declaración de guerra y las propuestas de “beneméritos comunes y en grado heróic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l frente del Poder Judicial está la Suprema Corte de Justicia y una Corte de Apelaciones, bajo cuya vigencia actúan los jueces letrad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el orden administrativo, se mantienen las tres antiguas provincias (Coquimbo, Santiago, Concepción) con el nombre de “gobiernos departamentales”, a la cabeza de los cuales está un Intendente nombrado por el Director Suprem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debía ser completada por 37 Reglamentos de las más variadas materias, dende las Instituciones morales de la sociedad hasta los trajes oficiales de los magistrados superiores y del Director Suprem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NUEL BLANCO ENCALADA  1826</a:t>
            </a:r>
            <a:endParaRPr b="0" lang="en-US" sz="3200" spc="-1" strike="noStrike">
              <a:solidFill>
                <a:srgbClr val="301800"/>
              </a:solidFill>
              <a:latin typeface="Arial Narrow"/>
            </a:endParaRPr>
          </a:p>
        </p:txBody>
      </p:sp>
      <p:sp>
        <p:nvSpPr>
          <p:cNvPr id="201"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6</a:t>
            </a:r>
            <a:r>
              <a:rPr b="1" lang="es-CL" sz="1800" spc="-1" strike="noStrike">
                <a:solidFill>
                  <a:srgbClr val="614020"/>
                </a:solidFill>
                <a:latin typeface="Book Antiqua"/>
              </a:rPr>
              <a:t>	</a:t>
            </a:r>
            <a:r>
              <a:rPr b="1" lang="es-CL" sz="1800" spc="-1" strike="noStrike">
                <a:solidFill>
                  <a:srgbClr val="614020"/>
                </a:solidFill>
                <a:latin typeface="Book Antiqua"/>
              </a:rPr>
              <a:t>-El Congreso designa, provisionalmente, a Manuel Blanco Encalada como primer </a:t>
            </a:r>
            <a:r>
              <a:rPr b="1" i="1" lang="es-CL" sz="1800" spc="-1" strike="noStrike">
                <a:solidFill>
                  <a:srgbClr val="614020"/>
                </a:solidFill>
                <a:latin typeface="Book Antiqua"/>
              </a:rPr>
              <a:t>Presidente de la República</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Instauración de la Constitución Federalista, encabezada por José Miguel Infante, además de los clérigos Cienfuegos y Fariña. Entre sus puntos esenciales divide al país en 8 provincias; establece que los gobernadores serán elegidos por cada una de las provincias; los Cabildos, así como los curas párrocos serán elegidos por elección popula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l estanco del tabaco vuelve a estar bajo el control del Esta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ente a la constante competencia con el Congreso, renunció a su cargo Blanco Encala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o sucede en el cargo en forma interina el vicepresidente, Agustín Eyzaguirr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7</a:t>
            </a:r>
            <a:r>
              <a:rPr b="1" lang="es-CL" sz="1800" spc="-1" strike="noStrike">
                <a:solidFill>
                  <a:srgbClr val="614020"/>
                </a:solidFill>
                <a:latin typeface="Book Antiqua"/>
              </a:rPr>
              <a:t>	</a:t>
            </a:r>
            <a:r>
              <a:rPr b="1" lang="es-CL" sz="1800" spc="-1" strike="noStrike">
                <a:solidFill>
                  <a:srgbClr val="614020"/>
                </a:solidFill>
                <a:latin typeface="Book Antiqua"/>
              </a:rPr>
              <a:t>-Renuncia de Agustín Eyzaguirre. El Congreso reelige como presidente a Ramón Freire, y como vicepresidente a Francisco Antonio Pinto.</a:t>
            </a:r>
            <a:endParaRPr b="0" lang="en-US" sz="1800" spc="-1" strike="noStrike">
              <a:solidFill>
                <a:srgbClr val="000000"/>
              </a:solidFill>
              <a:latin typeface="Arial Narrow"/>
            </a:endParaRPr>
          </a:p>
        </p:txBody>
      </p:sp>
      <p:pic>
        <p:nvPicPr>
          <p:cNvPr id="202" name="" descr=""/>
          <p:cNvPicPr/>
          <p:nvPr/>
        </p:nvPicPr>
        <p:blipFill>
          <a:blip r:embed="rId1"/>
          <a:stretch/>
        </p:blipFill>
        <p:spPr>
          <a:xfrm>
            <a:off x="539640" y="0"/>
            <a:ext cx="1714680" cy="198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20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l ensayo federal de 1826-1827</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sde su cargo de Presidente del Consejo Directorial que reemplazó a Freire durante la campaña de Chiloé, don José Miguel Infante, inicia la implantación del régimen federal con un decreto, dictado en Enero de 1826 que divide el territorio de Chile en 8 provincias con sus respectivas asambleas provinciales. Poco después, el 11 de Julio de 1826, con los solos votos adversos de Don Rodrigo Eyzaguirre y Don José Antonio Villagrán el Congreso aprobó la siguiente ley: </a:t>
            </a:r>
            <a:r>
              <a:rPr b="0" i="1" lang="es-ES_tradnl" sz="1600" spc="-1" strike="noStrike">
                <a:solidFill>
                  <a:srgbClr val="000000"/>
                </a:solidFill>
                <a:latin typeface="Book Antiqua"/>
              </a:rPr>
              <a:t>“La República de Chile se constituye por el sistema federal, cuya constitución se presentará a los pueblos para su aprobación”</a:t>
            </a:r>
            <a:r>
              <a:rPr b="0" lang="es-ES_tradnl" sz="1600" spc="-1" strike="noStrike">
                <a:solidFill>
                  <a:srgbClr val="000000"/>
                </a:solidFill>
                <a:latin typeface="Book Antiqua"/>
              </a:rPr>
              <a:t>. Mientras ocirría esto, el Congreso fue aprobando sucesivamente las siguientes leyes de derecho públic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26 de Julio de 1826</a:t>
            </a:r>
            <a:r>
              <a:rPr b="0" lang="es-ES_tradnl" sz="1600" spc="-1" strike="noStrike">
                <a:solidFill>
                  <a:srgbClr val="000000"/>
                </a:solidFill>
                <a:latin typeface="Book Antiqua"/>
              </a:rPr>
              <a:t>: se da el nombre de Gobernadores a los antiguos delegados y se determina que se elijan por votación popular.</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27 de Julio de 1826:</a:t>
            </a:r>
            <a:r>
              <a:rPr b="0" lang="es-ES_tradnl" sz="1600" spc="-1" strike="noStrike">
                <a:solidFill>
                  <a:srgbClr val="000000"/>
                </a:solidFill>
                <a:latin typeface="Book Antiqua"/>
              </a:rPr>
              <a:t> se dispone la elección popular de los Cabildo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28 de Julio de 1826</a:t>
            </a:r>
            <a:r>
              <a:rPr b="0" lang="es-ES_tradnl" sz="1600" spc="-1" strike="noStrike">
                <a:solidFill>
                  <a:srgbClr val="000000"/>
                </a:solidFill>
                <a:latin typeface="Book Antiqua"/>
              </a:rPr>
              <a:t>: se establece que los curas párrocos sean elegidos por votación popular y propuestos para su investidur a la autoridad eclesiástic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30 de Agosto de 1826:</a:t>
            </a:r>
            <a:r>
              <a:rPr b="0" lang="es-ES_tradnl" sz="1600" spc="-1" strike="noStrike">
                <a:solidFill>
                  <a:srgbClr val="000000"/>
                </a:solidFill>
                <a:latin typeface="Book Antiqua"/>
              </a:rPr>
              <a:t> se instituyen las asambleas provinciales y se divide el territorio nacional en 8 provincia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12 de Octubre de 1826</a:t>
            </a:r>
            <a:r>
              <a:rPr b="0" lang="es-ES_tradnl" sz="1600" spc="-1" strike="noStrike">
                <a:solidFill>
                  <a:srgbClr val="000000"/>
                </a:solidFill>
                <a:latin typeface="Book Antiqua"/>
              </a:rPr>
              <a:t>: se dispone que los intendentes de las provincias sean elegidos por los miembros de las Municipalidades en ellas comprendid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encargó redactar el proyecto de constitución federal a una comisión compuesta de don José Miguel Infante, don José Ignacio Cienfueegos, don Francisco Ramón Vicuña, don Juan Fariña y don José María Novoa. Se invitó a incorporarse a la comisión al Secretario de la Legación de los Estados Unidos, Samuel Larned, que presentó a ella un “Acta Constitucional” en que se propiciaba un régimen federal moderado, que más que a las provincias, confería autonomía a los municipios. Infante no se contentó con esto y fue de lleno a la elaboración de un proyecto constitucional inspirado en la Constitución mexicana de 1824, que era un calco de la de los Estados Unidos. La Comisión entregó el proyecto al Congreso el 19 de Enero de 1827 y la discusión se inició el 25 de Marzo. Se despacharon los 9 primeros artículos y al entrar precisamente al capítulo que trataba de la gorma de gobierno se produjo un serio debate que no llegó a conclusión. Quedó suspendido el estudio del proyecto y el Congreso se autodisolvió el 20 de Junio de 1827, después de nombrar una Comisión Nacional encargada de consultar a las provincias sobre la forma de gobierno y preparar una nueva Constitución que se sometería al próximo Congreso, encargo este último que no cumplió.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FRANCISCO ANTONIO PINTO  1827-1829</a:t>
            </a:r>
            <a:endParaRPr b="0" lang="en-US" sz="3200" spc="-1" strike="noStrike">
              <a:solidFill>
                <a:srgbClr val="301800"/>
              </a:solidFill>
              <a:latin typeface="Arial Narrow"/>
            </a:endParaRPr>
          </a:p>
        </p:txBody>
      </p:sp>
      <p:sp>
        <p:nvSpPr>
          <p:cNvPr id="207" name="PlaceHolder 2"/>
          <p:cNvSpPr>
            <a:spLocks noGrp="1"/>
          </p:cNvSpPr>
          <p:nvPr>
            <p:ph type="subTitle"/>
          </p:nvPr>
        </p:nvSpPr>
        <p:spPr>
          <a:xfrm>
            <a:off x="1115640" y="2060280"/>
            <a:ext cx="7777080" cy="453708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7</a:t>
            </a:r>
            <a:r>
              <a:rPr b="1" lang="es-CL" sz="1800" spc="-1" strike="noStrike">
                <a:solidFill>
                  <a:srgbClr val="614020"/>
                </a:solidFill>
                <a:latin typeface="Book Antiqua"/>
              </a:rPr>
              <a:t>	</a:t>
            </a:r>
            <a:r>
              <a:rPr b="1" lang="es-CL" sz="1800" spc="-1" strike="noStrike">
                <a:solidFill>
                  <a:srgbClr val="614020"/>
                </a:solidFill>
                <a:latin typeface="Book Antiqua"/>
              </a:rPr>
              <a:t>-Ante la renuncia de Freire, Francisco Antonio Pinto es designa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por el Congreso para tomar la Presidenc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isolución del Congre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uspención de las leyes feder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a:t>
            </a:r>
            <a:r>
              <a:rPr b="1" i="1" lang="es-CL" sz="1800" spc="-1" strike="noStrike">
                <a:solidFill>
                  <a:srgbClr val="614020"/>
                </a:solidFill>
                <a:latin typeface="Book Antiqua"/>
              </a:rPr>
              <a:t>El Mercurio de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614020"/>
                </a:solidFill>
                <a:latin typeface="Book Antiqua"/>
              </a:rPr>
              <a:t>	</a:t>
            </a:r>
            <a:r>
              <a:rPr b="1" i="1" lang="es-CL" sz="1800" spc="-1" strike="noStrike">
                <a:solidFill>
                  <a:srgbClr val="614020"/>
                </a:solidFill>
                <a:latin typeface="Book Antiqua"/>
              </a:rPr>
              <a:t>-</a:t>
            </a:r>
            <a:r>
              <a:rPr b="1" lang="es-CL" sz="1800" spc="-1" strike="noStrike">
                <a:solidFill>
                  <a:srgbClr val="614020"/>
                </a:solidFill>
                <a:latin typeface="Book Antiqua"/>
              </a:rPr>
              <a:t>Guerra periodística: </a:t>
            </a:r>
            <a:r>
              <a:rPr b="1" i="1" lang="es-CL" sz="1800" spc="-1" strike="noStrike">
                <a:solidFill>
                  <a:srgbClr val="614020"/>
                </a:solidFill>
                <a:latin typeface="Book Antiqua"/>
              </a:rPr>
              <a:t>El Hambriento y El Canalla, </a:t>
            </a:r>
            <a:r>
              <a:rPr b="1" lang="es-CL" sz="1800" spc="-1" strike="noStrike">
                <a:solidFill>
                  <a:srgbClr val="614020"/>
                </a:solidFill>
                <a:latin typeface="Book Antiqua"/>
              </a:rPr>
              <a:t>periódicos que representan a loa estanqueros y los pipiolos respectivamente. Los primeros proponen un gobierno fuerte y centralizado, y los pipiolos son un grupo de antiguos federalistas, cuya meta es imponer la democracia. Esta disputa da cuenta de la crisis política existente en el perío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8</a:t>
            </a:r>
            <a:r>
              <a:rPr b="1" lang="es-CL" sz="1800" spc="-1" strike="noStrike">
                <a:solidFill>
                  <a:srgbClr val="614020"/>
                </a:solidFill>
                <a:latin typeface="Book Antiqua"/>
              </a:rPr>
              <a:t>	</a:t>
            </a:r>
            <a:r>
              <a:rPr b="1" lang="es-CL" sz="1800" spc="-1" strike="noStrike">
                <a:solidFill>
                  <a:srgbClr val="614020"/>
                </a:solidFill>
                <a:latin typeface="Book Antiqua"/>
              </a:rPr>
              <a:t>-Constitución Liberal, redactada por José Joaquín de Mora y Malchor de Santiago Conch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614020"/>
                </a:solidFill>
                <a:latin typeface="Book Antiqua"/>
              </a:rPr>
              <a:t>	</a:t>
            </a:r>
            <a:r>
              <a:rPr b="1" i="1" lang="es-CL" sz="1800" spc="-1" strike="noStrike">
                <a:solidFill>
                  <a:srgbClr val="614020"/>
                </a:solidFill>
                <a:latin typeface="Book Antiqua"/>
              </a:rPr>
              <a:t>-</a:t>
            </a:r>
            <a:r>
              <a:rPr b="1" lang="es-CL" sz="1800" spc="-1" strike="noStrike">
                <a:solidFill>
                  <a:srgbClr val="614020"/>
                </a:solidFill>
                <a:latin typeface="Book Antiqua"/>
              </a:rPr>
              <a:t>Llega a Chile el naturalista ye historiador francés Claudio Gay. Fruto de sus investigaciones escribe </a:t>
            </a:r>
            <a:r>
              <a:rPr b="1" i="1" lang="es-CL" sz="1800" spc="-1" strike="noStrike">
                <a:solidFill>
                  <a:srgbClr val="614020"/>
                </a:solidFill>
                <a:latin typeface="Book Antiqua"/>
              </a:rPr>
              <a:t>“Historia Física y Política de Chile”, </a:t>
            </a:r>
            <a:r>
              <a:rPr b="1" lang="es-CL" sz="1800" spc="-1" strike="noStrike">
                <a:solidFill>
                  <a:srgbClr val="614020"/>
                </a:solidFill>
                <a:latin typeface="Book Antiqua"/>
              </a:rPr>
              <a:t>que se publica entre 1845 y 1855, en 24 tomos, en París.</a:t>
            </a:r>
            <a:endParaRPr b="0" lang="en-US" sz="1800" spc="-1" strike="noStrike">
              <a:solidFill>
                <a:srgbClr val="000000"/>
              </a:solidFill>
              <a:latin typeface="Arial Narrow"/>
            </a:endParaRPr>
          </a:p>
        </p:txBody>
      </p:sp>
      <p:pic>
        <p:nvPicPr>
          <p:cNvPr id="208" name="" descr=""/>
          <p:cNvPicPr/>
          <p:nvPr/>
        </p:nvPicPr>
        <p:blipFill>
          <a:blip r:embed="rId1"/>
          <a:stretch/>
        </p:blipFill>
        <p:spPr>
          <a:xfrm>
            <a:off x="755640" y="0"/>
            <a:ext cx="1609560" cy="198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116000" y="1844640"/>
            <a:ext cx="7416720" cy="4680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UAN ANTONIO RIO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42-194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GABRIEL GONZALEZ VIDEL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46-195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CARLOS IBAÑEZ DEL CAMP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52-1958</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RGE ALESSANDRI RODRIGUEZ</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58-196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EDUARDO FREI MONTALV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64-197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SALVADOR ALLENDE GOSSEN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70-1973</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UGUSTO PINOCHET UGARTE</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73-199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PATRICIO AYLWIN AZOCAR</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90-199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EDUARDO FREI RUIZ-TAGLE</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1994-200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RICARDO LAGOS ESCOBAR.</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2000-200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MICHELLE BACHELET JERIA</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2006-201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042920" y="1699920"/>
            <a:ext cx="7850160" cy="5157720"/>
          </a:xfrm>
          <a:prstGeom prst="rect">
            <a:avLst/>
          </a:prstGeom>
          <a:noFill/>
          <a:ln w="0">
            <a:noFill/>
          </a:ln>
        </p:spPr>
        <p:txBody>
          <a:bodyPr lIns="92160" rIns="92160" tIns="46080" bIns="46080" anchor="t">
            <a:normAutofit fontScale="96000"/>
          </a:bodyPr>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La esposa de José Joaquín de Mora funda el primer colegio para</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eñoritas.</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9</a:t>
            </a:r>
            <a:r>
              <a:rPr b="1" lang="es-CL" sz="1800" spc="-1" strike="noStrike">
                <a:solidFill>
                  <a:srgbClr val="000066"/>
                </a:solidFill>
                <a:latin typeface="Book Antiqua"/>
              </a:rPr>
              <a:t>	</a:t>
            </a:r>
            <a:r>
              <a:rPr b="1" lang="es-CL" sz="1800" spc="-1" strike="noStrike">
                <a:solidFill>
                  <a:srgbClr val="614020"/>
                </a:solidFill>
                <a:latin typeface="Book Antiqua"/>
              </a:rPr>
              <a:t> -Pinto renuncia a la presidencia, en su reemplazo asume Francisc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Ramón Vicuña.</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volución aristocrática; el ejercito del sur, al mando del general Prieto se subleva en defensa de la constitución y avanza hacia Santiago. En la capital es detenido por tropas del gobierno dirigidas por el general Francisco de la Lastra. Se logra concertar un pacto que pone a ambos bandos al mando de Freire, mientras se elige una junta provisional.</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Bajo la dirección de  José Joaquín de Mora se abre el Liceo de Chile</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lega al país Andrés Bell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0</a:t>
            </a:r>
            <a:r>
              <a:rPr b="1" lang="es-CL" sz="1800" spc="-1" strike="noStrike">
                <a:solidFill>
                  <a:srgbClr val="614020"/>
                </a:solidFill>
                <a:latin typeface="Book Antiqua"/>
              </a:rPr>
              <a:t>	</a:t>
            </a:r>
            <a:r>
              <a:rPr b="1" lang="es-CL" sz="1800" spc="-1" strike="noStrike">
                <a:solidFill>
                  <a:srgbClr val="614020"/>
                </a:solidFill>
                <a:latin typeface="Book Antiqua"/>
              </a:rPr>
              <a:t>-El Congreso designa presidente a Francisco Ruiz Tagle. A la renuncia de éste, asume José Farias Ovalle.</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Batalla de Lircay, que otorga el triunfo al bando conservador sobre las tropas liberales, iniciándose así el período autoritario, que se consagra más tarde  con la constitución de 1833.</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211" name=""/>
          <p:cNvSpPr/>
          <p:nvPr/>
        </p:nvSpPr>
        <p:spPr>
          <a:xfrm>
            <a:off x="1066680" y="1066680"/>
            <a:ext cx="8077320" cy="44197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La constitución de 1828</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Congreso inaugurado el 25 de Febrero, acordó que la forma de Gobierno fuera la “popular representativa republicana”. Nombró una comisión encargada de redactar un proyecto constitucional y que confió a uno de sus miembros, don Melchor de Santiago-Concha, la tarea de elaborar una pauta de las materias que debían incluirse en la nueva Carta Política. En la práctica, el proyecto fue elaborado por el español, don José Joaquin de Mora, que tuvo en vista la Constitución de las Cortes de Cádiz de 1812 y el proyecto federal de Infante. El Congreso, con escasas modificaciones, presto si aprobación al proyecto de Mora, que fue promulgado el 8 de Agosto de 1828.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establece que “la nación chilena adopta para su gobierno ka forma de república representativa popular”. La soberanía reside esencialmente en la nación y su ejercicio en los poderes supremos con arreglo a las leyes. Se reconoce la calidad de ciudadanos activos a “los chilenos naturales que, habiendo cumplido 21 años, o antes si fueran casados, o sirvieren en la milicia, profesen alguna ciencia, arte o industria, o ejerzan empleo, o pesean un capital en giro o propiedad raíz de que vivir”.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religión de Chile “es la católica, apostólica, romana, con exclusión del ejercicio público de cualquiera otra. Nadie será perseguido ni molestado por sus opiniones privadas”. Se asegura a todo hombre “como derechos imprescindibles e inviolables, la libertad, la seguridad, la propiedad, el derecho de petición y la libertad de imprenta”. Se declara la igualdad ante la ley y la abolición de los mayorazg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Ejecutivo lo ejerce el Presidente de la República, a quién sucede en el mando, “en caso de muerte o imposibilidad física o moral”, el Vice Presidente. Ambos son elegidos por votación indirecta de “electores” nombrados en número triple al de los congresales. El escrutinio y calificación los hace el Congreso, proclamado Presidente al que reuniere la mayoría absoluta y Vice al que siguiere en mayoría siempre que fuere también absoluta. En caso de empates o de que ninguno obtuviese mayoría absoluta “las Cámaras eligirán entre los que obtengan mayoría respectiva el Presidente de la República y después el Vice Presidente entre los de la mayoría inmediata. Tanto el Presidente como el Vice Presidente duraran 5 años y no pueden ser reelegidos en el período inmedia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tre las atribuciones presidenciales figuran la de nombrar y remover sin expresión de causas a los Ministros y la de oponer veto suspensivo a los proyectos de ley aprobados por el Congreso. Las demás facultades del ejecutivo necesitan para ser ejercidas de la anuencia del Congres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Legislativo reside en el Congreso integrado por la Cámara de Diputados y el Senado. Los miembros de la primera son de elección directa, en cambio los del segundo son nombrados por las asambleas provinciales. En receso del Congreso funciona una “Comisión permanente” compuesta de un senador por cada provi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Judicial reside en la Corte Suprema, Cortes de Apelaciones cuyo número se determinará por una ley especial y Juzgdos de primera instancia. Los miembros de la Corte Suprema son nombrados por el Congreso; de las Cortes de Apelaciones, por el Ejecutivo, a propuesta de una terna de la Corte Suprema; y los jueces letrados por el ejecutivo a propuesta en terna de las Asambleas provincial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administración interior de las provincias se ejerce po una Asamblea Provincial, de elección directa y un intendente nombrado por el Ejecutivo previa terna de la respectiva asamblea. Entre las atribuciones de las asambleas está la de supervigilar  las municipalidades de su jurisdiccióm.</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ólo el Congreso puede resolver las dudas que se susciten respecto de la inteligencia de cualquier artículo de la Constitución. Ella no podrá ser reformada hasta el año 1836 en que se convocará para este objeto por el Congreso una Gran Conven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JOAQUIN PRIETO VIAL  1831-1841</a:t>
            </a:r>
            <a:endParaRPr b="0" lang="en-US" sz="3200" spc="-1" strike="noStrike">
              <a:solidFill>
                <a:srgbClr val="301800"/>
              </a:solidFill>
              <a:latin typeface="Arial Narrow"/>
            </a:endParaRPr>
          </a:p>
        </p:txBody>
      </p:sp>
      <p:sp>
        <p:nvSpPr>
          <p:cNvPr id="215"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1</a:t>
            </a:r>
            <a:r>
              <a:rPr b="1" lang="es-CL" sz="1800" spc="-1" strike="noStrike">
                <a:solidFill>
                  <a:srgbClr val="614020"/>
                </a:solidFill>
                <a:latin typeface="Book Antiqua"/>
              </a:rPr>
              <a:t>	</a:t>
            </a:r>
            <a:r>
              <a:rPr b="1" lang="es-CL" sz="1800" spc="-1" strike="noStrike">
                <a:solidFill>
                  <a:srgbClr val="614020"/>
                </a:solidFill>
                <a:latin typeface="Book Antiqua"/>
              </a:rPr>
              <a:t>-Elecciones presidenciales, es elegido José Joaquín Prieto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residente de la República. Su gobierno inicia el período de los deceni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iego Portales asume el ministerio de Guer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2</a:t>
            </a:r>
            <a:r>
              <a:rPr b="1" lang="es-CL" sz="1800" spc="-1" strike="noStrike">
                <a:solidFill>
                  <a:srgbClr val="614020"/>
                </a:solidFill>
                <a:latin typeface="Book Antiqua"/>
              </a:rPr>
              <a:t>	</a:t>
            </a:r>
            <a:r>
              <a:rPr b="1" lang="es-CL" sz="1800" spc="-1" strike="noStrike">
                <a:solidFill>
                  <a:srgbClr val="614020"/>
                </a:solidFill>
                <a:latin typeface="Book Antiqua"/>
              </a:rPr>
              <a:t>-Juan Godoy descubre en Copiapó el rico mineral de plata de Chañarc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Destrucción de las bandas montoneras en el su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3</a:t>
            </a:r>
            <a:r>
              <a:rPr b="1" lang="es-CL" sz="1800" spc="-1" strike="noStrike">
                <a:solidFill>
                  <a:srgbClr val="000066"/>
                </a:solidFill>
                <a:latin typeface="Book Antiqua"/>
              </a:rPr>
              <a:t>	</a:t>
            </a:r>
            <a:r>
              <a:rPr b="1" lang="es-CL" sz="1800" spc="-1" strike="noStrike">
                <a:solidFill>
                  <a:srgbClr val="614020"/>
                </a:solidFill>
                <a:latin typeface="Book Antiqua"/>
              </a:rPr>
              <a:t>-Promulgación de la Constitución Conservadora que otorga gran poder al Presidente y cuyos principales redactores son Mariano Egaña y Manuel José Gandarill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4</a:t>
            </a:r>
            <a:r>
              <a:rPr b="1" lang="es-CL" sz="1800" spc="-1" strike="noStrike">
                <a:solidFill>
                  <a:srgbClr val="614020"/>
                </a:solidFill>
                <a:latin typeface="Book Antiqua"/>
              </a:rPr>
              <a:t>	</a:t>
            </a:r>
            <a:r>
              <a:rPr b="1" lang="es-CL" sz="1800" spc="-1" strike="noStrike">
                <a:solidFill>
                  <a:srgbClr val="614020"/>
                </a:solidFill>
                <a:latin typeface="Book Antiqua"/>
              </a:rPr>
              <a:t>-Carlos Wood crea el actual Escudo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5</a:t>
            </a:r>
            <a:r>
              <a:rPr b="1" lang="es-CL" sz="1800" spc="-1" strike="noStrike">
                <a:solidFill>
                  <a:srgbClr val="614020"/>
                </a:solidFill>
                <a:latin typeface="Book Antiqua"/>
              </a:rPr>
              <a:t>	</a:t>
            </a:r>
            <a:r>
              <a:rPr b="1" lang="es-CL" sz="1800" spc="-1" strike="noStrike">
                <a:solidFill>
                  <a:srgbClr val="614020"/>
                </a:solidFill>
                <a:latin typeface="Book Antiqua"/>
              </a:rPr>
              <a:t>- Terremoto en Chillán y Concepción. Chillán viejo queda destruido completame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otorga a Guillermo Wheelwrightl la concesión para establecer una línea de vapores entre Valparaíso (Chile) y El Callao (Perú)</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216" name="" descr=""/>
          <p:cNvPicPr/>
          <p:nvPr/>
        </p:nvPicPr>
        <p:blipFill>
          <a:blip r:embed="rId1"/>
          <a:stretch/>
        </p:blipFill>
        <p:spPr>
          <a:xfrm>
            <a:off x="770040" y="0"/>
            <a:ext cx="1590480" cy="198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71640" y="1700280"/>
            <a:ext cx="7921440" cy="4968720"/>
          </a:xfrm>
          <a:prstGeom prst="rect">
            <a:avLst/>
          </a:prstGeom>
          <a:noFill/>
          <a:ln w="0">
            <a:noFill/>
          </a:ln>
        </p:spPr>
        <p:txBody>
          <a:bodyPr lIns="92160" rIns="92160" tIns="46080" bIns="46080" anchor="t">
            <a:normAutofit fontScale="93000"/>
          </a:bodyPr>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nombra a Diego Portales  como  ministro de Guerra y Marina,</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 Interior  y Rerlacion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de Población: un poco más de 1.000.000 de habitantes, sin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ntar a los mapuch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6</a:t>
            </a:r>
            <a:r>
              <a:rPr b="1" lang="es-CL" sz="1800" spc="-1" strike="noStrike">
                <a:solidFill>
                  <a:srgbClr val="614020"/>
                </a:solidFill>
                <a:latin typeface="Book Antiqua"/>
              </a:rPr>
              <a:t>	</a:t>
            </a:r>
            <a:r>
              <a:rPr b="1" lang="es-CL" sz="1800" spc="-1" strike="noStrike">
                <a:solidFill>
                  <a:srgbClr val="614020"/>
                </a:solidFill>
                <a:latin typeface="Book Antiqua"/>
              </a:rPr>
              <a:t>- Reelegido José Joaquín Prieto</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e crea la Confederación peruano-boliviana, intento de formar un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do poderoso bajo la orientación del mariscal boliviano André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anta Cruz</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laración de guerra a la Confederación , instituyéndose en el</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aís el estado de sitio y la vigencia de facultades extraordinaria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7</a:t>
            </a:r>
            <a:r>
              <a:rPr b="1" lang="es-CL" sz="1800" spc="-1" strike="noStrike">
                <a:solidFill>
                  <a:srgbClr val="614020"/>
                </a:solidFill>
                <a:latin typeface="Book Antiqua"/>
              </a:rPr>
              <a:t>	</a:t>
            </a:r>
            <a:r>
              <a:rPr b="1" lang="es-CL" sz="1800" spc="-1" strike="noStrike">
                <a:solidFill>
                  <a:srgbClr val="614020"/>
                </a:solidFill>
                <a:latin typeface="Book Antiqua"/>
              </a:rPr>
              <a:t>-Detención y asesinato de Portales por sectores del ejército</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crea el Ministerio de Culto e Instrucción Puública, confiado a Mariano Egaña</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irma del tratado de Paucarpata, en el cual se establece la paz entre Chile y la Confederación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71280" y="1828440"/>
            <a:ext cx="763740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9</a:t>
            </a:r>
            <a:r>
              <a:rPr b="1" lang="es-CL" sz="1800" spc="-1" strike="noStrike">
                <a:solidFill>
                  <a:srgbClr val="614020"/>
                </a:solidFill>
                <a:latin typeface="Book Antiqua"/>
              </a:rPr>
              <a:t>	</a:t>
            </a:r>
            <a:r>
              <a:rPr b="1" lang="es-CL" sz="1800" spc="-1" strike="noStrike">
                <a:solidFill>
                  <a:srgbClr val="614020"/>
                </a:solidFill>
                <a:latin typeface="Book Antiqua"/>
              </a:rPr>
              <a:t>-Batalla de Yungay, que significa la disolución definitiva de l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onfederaci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0</a:t>
            </a:r>
            <a:r>
              <a:rPr b="1" lang="es-CL" sz="1800" spc="-1" strike="noStrike">
                <a:solidFill>
                  <a:srgbClr val="614020"/>
                </a:solidFill>
                <a:latin typeface="Book Antiqua"/>
              </a:rPr>
              <a:t>	</a:t>
            </a:r>
            <a:r>
              <a:rPr b="1" lang="es-CL" sz="1800" spc="-1" strike="noStrike">
                <a:solidFill>
                  <a:srgbClr val="614020"/>
                </a:solidFill>
                <a:latin typeface="Book Antiqua"/>
              </a:rPr>
              <a:t>-La Santa Sede reconoce a Chile como nación Independiente</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de 1833.</a:t>
            </a:r>
            <a:endParaRPr b="0" lang="en-US" sz="3200" spc="-1" strike="noStrike">
              <a:solidFill>
                <a:srgbClr val="000000"/>
              </a:solidFill>
              <a:latin typeface="Arial"/>
            </a:endParaRPr>
          </a:p>
        </p:txBody>
      </p:sp>
      <p:sp>
        <p:nvSpPr>
          <p:cNvPr id="220"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Proceso de Forma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de 1828, por las débiles atribuciones concebidas al Ejecutivo y al gran desarrollo que daba en cambio a las libertades individuales, resultaba un estorbo a todo intento de robustecimiento del poder político, como medio de acabar con la anarquía. Aunque ella en su artículo 133, prohibía su reforma hasta el año 1836, en que debía convocarse para este objeto una “Gran Convención”, el peluconismo triunfante no pensó dilatar hasta entonces el cambio que las circunstancias exigían y que el triunfo de la revolución permitía impone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sde las columnas de “El Araucano”, don Manuel José Gandarillas, realizó una activa propaganda en pro de la reforma, la que fue seguida de un resuelto paso del Cabildo de Santiago en tal sentido. Continuando la vieja tradición indiana de sentirse vocero de la comunidad, el 17 de Febrero de 1831, el Cabildo enviaba un oficio al Gobierno que se autorizara al próximo Congreso a emprender la reform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t>
            </a:r>
            <a:r>
              <a:rPr b="1" lang="es-ES_tradnl" sz="1600" spc="-1" strike="noStrike">
                <a:solidFill>
                  <a:srgbClr val="000000"/>
                </a:solidFill>
                <a:latin typeface="Book Antiqua"/>
              </a:rPr>
              <a:t>Las leyes constitucionales aunque son perpetuas, no son irrevocables, porque esta perpetuidad sólo tiene lugar mientras propenden al bien común, que es su único objeto. El artículo 133, retardando la correción de los defectos que el tiempo la experiencia nos han hehco conocer, pone al Estado en la necesidad de sufrir males que pueden disolver el poder político antes que corregir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Gobierno envió en consulta la proposición del Cabildo al Congreso de prenipotenciarios, próximo ya a ser clausurado, y éste la acogió plenamente, concediéndose así el nuevo Congreso la facultad de adelantar la reforma constituciona. Reunido él, el senador don Manuel José Gandarillas presentó el 8 de junio de 1831 un proyecto de ley encaminado a preparar la reforma por la convocatoria de una “Gran Convención”, siguiéndose aquí lo prescrito por la Carta de 1828. Después de largos debates, el proyecto quedó transformado en ley y promulgado por el gobierno el 1º de Octubre de 1831.</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 acuerdo con sus disposiciones, el Congreso elegiría en sesión plena los 36 miembros de que se compondría la Gran Convención, de los cuales 16 debían escogerse entre los diputados y 20 entre ciudadanos de “conocida probidad e ilustración”. En la práctica la casi totalidad de los convencionales elegidos por este último capítulo pertenecieron también al Congreso. La convención fue inaugurada solemnemente por el Presidente Prieto el 20 de Octubre y entrando al día siguiente en actividad acordó elegir de su seno una comisión que debía abocarse al estudio de la reforma constitucional. Esta comisión quedó compuesta de don Mariano Egaña, don Manuel José Gandarillas, don Fernando Elizaldi, don Agustín Vial Santelices, don Santiago Echevers, don Gabriel Tocornal y don Juan Francisco Menes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sde el primer momento Egaña y Gandarillas representaron dos tendencias opuestas. Gandarillas se mostró partidario de una reforma a la Constitución de 1828 pero no de un cambio radical de la misma; propició la abolición del fuero eclesiástico y la acusación del Presidente durante su gobierno y hasta un año después por la Cámara ante el Senado. Egaña se inclinó resueltamente a la dictación de una nueva carta política de intención autoritaria en que el Presidente duraría 5 años, pudiendo ser reelegido indefinidamente; que tendría la atribución de nombrar y remover a los Ministros, disolver la Cámara de Diputados y oponer el veto absoluto a las leyes aprobadas por el Congreso que en tal caso podrían ser presentadas el año siguie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misión elaboróun proyecto de reforma cuya redacción parece que fue hecha por don Andrés Bello y que incluyó algunas ideas de Gandarillas y otras de Egaña. Este último, insatisfecho con el resultado, dio a sus ideas la forma de un proyecto orgánico que hizo imprimir y ha sido conocido como el “Voto Particular de Egaña”. El 25 de Agosto de 1832 la comisión daba por terminado su trabajo y elevaba l proyecto de reforma al estudio de la Gran Convención. Estalo aprobó en general, pero en la discusión particular introdujo varias modificaciones, dando cabida a puntos de vista de Egaña. Al fin el texto definitivo de la nueva Constitución fue promulgado el 25 de Mayo de 18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404280"/>
            <a:ext cx="57909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TEO DE TORO Y ZAMBRANO</a:t>
            </a:r>
            <a:r>
              <a:rPr b="1" lang="es-CL" sz="3200" spc="-1" strike="noStrike">
                <a:solidFill>
                  <a:srgbClr val="000066"/>
                </a:solidFill>
                <a:latin typeface="Book Antiqua"/>
              </a:rPr>
              <a:t>	</a:t>
            </a:r>
            <a:r>
              <a:rPr b="1" lang="es-CL" sz="3200" spc="-1" strike="noStrike">
                <a:solidFill>
                  <a:srgbClr val="000066"/>
                </a:solidFill>
                <a:latin typeface="Book Antiqua"/>
              </a:rPr>
              <a:t>1810</a:t>
            </a:r>
            <a:endParaRPr b="0" lang="en-US" sz="3200" spc="-1" strike="noStrike">
              <a:solidFill>
                <a:srgbClr val="301800"/>
              </a:solidFill>
              <a:latin typeface="Arial Narrow"/>
            </a:endParaRPr>
          </a:p>
        </p:txBody>
      </p:sp>
      <p:sp>
        <p:nvSpPr>
          <p:cNvPr id="155"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0</a:t>
            </a:r>
            <a:r>
              <a:rPr b="1" lang="es-CL" sz="1800" spc="-1" strike="noStrike">
                <a:solidFill>
                  <a:srgbClr val="614020"/>
                </a:solidFill>
                <a:latin typeface="Book Antiqua"/>
              </a:rPr>
              <a:t>	</a:t>
            </a:r>
            <a:r>
              <a:rPr b="1" lang="es-CL" sz="1800" spc="-1" strike="noStrike">
                <a:solidFill>
                  <a:srgbClr val="614020"/>
                </a:solidFill>
                <a:latin typeface="Book Antiqua"/>
              </a:rPr>
              <a:t>-Se inicia del proceso de separación de España y posterior Independencia Nacional (1810-1818)</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ormación de la Primera Junta Nacional de Gobierno, de la cual es nombrado Colegiado Preside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1</a:t>
            </a:r>
            <a:r>
              <a:rPr b="1" lang="es-CL" sz="1800" spc="-1" strike="noStrike">
                <a:solidFill>
                  <a:srgbClr val="614020"/>
                </a:solidFill>
                <a:latin typeface="Book Antiqua"/>
              </a:rPr>
              <a:t>	</a:t>
            </a:r>
            <a:r>
              <a:rPr b="1" lang="es-CL" sz="1800" spc="-1" strike="noStrike">
                <a:solidFill>
                  <a:srgbClr val="614020"/>
                </a:solidFill>
                <a:latin typeface="Book Antiqua"/>
              </a:rPr>
              <a:t>-Decreto de Libertad de Comercio; frente a la imposibilidad de comerciar con España y con el fin de fortalecer las rentas fiscales, se abren los puertos de Valparaíso, Coquimbo, Talcahuano y Valdivia a la comercialización con potencias extranjer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blecimiento de los cuerpos militares para hacer frente a la posible intervención del virrey del Perú. Para financiarlos se establecen nuevos impuestos y se suspende la construcción de obras públicas. Se careció, sin embargo, de armas y oficia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nvocatoria a elecciones para formar un Congreso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56" name="" descr=""/>
          <p:cNvPicPr/>
          <p:nvPr/>
        </p:nvPicPr>
        <p:blipFill>
          <a:blip r:embed="rId1"/>
          <a:stretch/>
        </p:blipFill>
        <p:spPr>
          <a:xfrm>
            <a:off x="885960" y="0"/>
            <a:ext cx="1228680" cy="2060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ntenido de la Constitu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mienza por declarar que </a:t>
            </a:r>
            <a:r>
              <a:rPr b="0" i="1" lang="es-ES_tradnl" sz="1600" spc="-1" strike="noStrike">
                <a:solidFill>
                  <a:srgbClr val="000000"/>
                </a:solidFill>
                <a:latin typeface="Book Antiqua"/>
              </a:rPr>
              <a:t>“El territorio de Chile se extinde desde el desierto de Atacama hasta el Cabo de Hornos y desde las cordilleras de los Andes hasta el mar Pacífico, comprendiendo el Archipiélago de Chiloé, todas las islas adyacentes y las de Juan Fernandez”</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régimen de gobierno es </a:t>
            </a:r>
            <a:r>
              <a:rPr b="0" i="1" lang="es-ES_tradnl" sz="1600" spc="-1" strike="noStrike">
                <a:solidFill>
                  <a:srgbClr val="000000"/>
                </a:solidFill>
                <a:latin typeface="Book Antiqua"/>
              </a:rPr>
              <a:t>“popular representativo” </a:t>
            </a:r>
            <a:r>
              <a:rPr b="0" lang="es-ES_tradnl" sz="1600" spc="-1" strike="noStrike">
                <a:solidFill>
                  <a:srgbClr val="000000"/>
                </a:solidFill>
                <a:latin typeface="Book Antiqua"/>
              </a:rPr>
              <a:t>y </a:t>
            </a:r>
            <a:r>
              <a:rPr b="0" i="1" lang="es-ES_tradnl" sz="1600" spc="-1" strike="noStrike">
                <a:solidFill>
                  <a:srgbClr val="000000"/>
                </a:solidFill>
                <a:latin typeface="Book Antiqua"/>
              </a:rPr>
              <a:t>“la soberanía reside esencialmente en la nación, que delega su ejercicio en las autoridades que establece la Constitu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religión de la República </a:t>
            </a:r>
            <a:r>
              <a:rPr b="0" i="1" lang="es-ES_tradnl" sz="1600" spc="-1" strike="noStrike">
                <a:solidFill>
                  <a:srgbClr val="000000"/>
                </a:solidFill>
                <a:latin typeface="Book Antiqua"/>
              </a:rPr>
              <a:t>“es la católica, apostólica, romana; con exclusión del ejercicio público de cualquier otra”</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on ciudadanos activos con derecho a sufragio los chilenos que habiendo cumplido veinticinco años, si son solteros y veintiuno si son casados, y sabiendo escribir y leer, tengan algunos de los siguientes requisitos: 1º una propiedad inmueble o un capital invertido en alguna especie de giro o industria. El valor de la propiedad inmueble, o del capital, se fijará para cada provincia de diez en diez años por una ley especial. 2º el jercicio de una industria o arte, o el goce de algún empleo, renta o usufructo, cuyos emolumentos o productos guarden proporción con la propiedad inmueble o capital de que se habla en el número anter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reconocen las siguintes garantías individuales: </a:t>
            </a:r>
            <a:r>
              <a:rPr b="1" lang="es-ES_tradnl" sz="1600" spc="-1" strike="noStrike">
                <a:solidFill>
                  <a:srgbClr val="000000"/>
                </a:solidFill>
                <a:latin typeface="Book Antiqua"/>
              </a:rPr>
              <a:t>igualdad ante la ley</a:t>
            </a:r>
            <a:r>
              <a:rPr b="0" lang="es-ES_tradnl" sz="1600" spc="-1" strike="noStrike">
                <a:solidFill>
                  <a:srgbClr val="000000"/>
                </a:solidFill>
                <a:latin typeface="Book Antiqua"/>
              </a:rPr>
              <a:t>, </a:t>
            </a:r>
            <a:r>
              <a:rPr b="1" lang="es-ES_tradnl" sz="1600" spc="-1" strike="noStrike">
                <a:solidFill>
                  <a:srgbClr val="000000"/>
                </a:solidFill>
                <a:latin typeface="Book Antiqua"/>
              </a:rPr>
              <a:t>igualdad en la admisión de los empleos y funciones públicas</a:t>
            </a:r>
            <a:r>
              <a:rPr b="0" lang="es-ES_tradnl" sz="1600" spc="-1" strike="noStrike">
                <a:solidFill>
                  <a:srgbClr val="000000"/>
                </a:solidFill>
                <a:latin typeface="Book Antiqua"/>
              </a:rPr>
              <a:t>, </a:t>
            </a:r>
            <a:r>
              <a:rPr b="1" lang="es-ES_tradnl" sz="1600" spc="-1" strike="noStrike">
                <a:solidFill>
                  <a:srgbClr val="000000"/>
                </a:solidFill>
                <a:latin typeface="Book Antiqua"/>
              </a:rPr>
              <a:t>igualdad en el reparto de los impuestos y contribuciones a proporción de los haberes</a:t>
            </a:r>
            <a:r>
              <a:rPr b="0" lang="es-ES_tradnl" sz="1600" spc="-1" strike="noStrike">
                <a:solidFill>
                  <a:srgbClr val="000000"/>
                </a:solidFill>
                <a:latin typeface="Book Antiqua"/>
              </a:rPr>
              <a:t>, </a:t>
            </a:r>
            <a:r>
              <a:rPr b="1" lang="es-ES_tradnl" sz="1600" spc="-1" strike="noStrike">
                <a:solidFill>
                  <a:srgbClr val="000000"/>
                </a:solidFill>
                <a:latin typeface="Book Antiqua"/>
              </a:rPr>
              <a:t>libertad de permanecer en cualquier punto de la República</a:t>
            </a:r>
            <a:r>
              <a:rPr b="0" lang="es-ES_tradnl" sz="1600" spc="-1" strike="noStrike">
                <a:solidFill>
                  <a:srgbClr val="000000"/>
                </a:solidFill>
                <a:latin typeface="Book Antiqua"/>
              </a:rPr>
              <a:t>, </a:t>
            </a:r>
            <a:r>
              <a:rPr b="1" lang="es-ES_tradnl" sz="1600" spc="-1" strike="noStrike">
                <a:solidFill>
                  <a:srgbClr val="000000"/>
                </a:solidFill>
                <a:latin typeface="Book Antiqua"/>
              </a:rPr>
              <a:t>inviolabilidad de todas las propiedades</a:t>
            </a:r>
            <a:r>
              <a:rPr b="0" lang="es-ES_tradnl" sz="1600" spc="-1" strike="noStrike">
                <a:solidFill>
                  <a:srgbClr val="000000"/>
                </a:solidFill>
                <a:latin typeface="Book Antiqua"/>
              </a:rPr>
              <a:t>, </a:t>
            </a:r>
            <a:r>
              <a:rPr b="1" lang="es-ES_tradnl" sz="1600" spc="-1" strike="noStrike">
                <a:solidFill>
                  <a:srgbClr val="000000"/>
                </a:solidFill>
                <a:latin typeface="Book Antiqua"/>
              </a:rPr>
              <a:t>derecho de petición</a:t>
            </a:r>
            <a:r>
              <a:rPr b="0" lang="es-ES_tradnl" sz="1600" spc="-1" strike="noStrike">
                <a:solidFill>
                  <a:srgbClr val="000000"/>
                </a:solidFill>
                <a:latin typeface="Book Antiqua"/>
              </a:rPr>
              <a:t> y </a:t>
            </a:r>
            <a:r>
              <a:rPr b="1" lang="es-ES_tradnl" sz="1600" spc="-1" strike="noStrike">
                <a:solidFill>
                  <a:srgbClr val="000000"/>
                </a:solidFill>
                <a:latin typeface="Book Antiqua"/>
              </a:rPr>
              <a:t>libertad de imprenta</a:t>
            </a:r>
            <a:r>
              <a:rPr b="0" lang="es-ES_tradnl" sz="1600" spc="-1" strike="noStrike">
                <a:solidFill>
                  <a:srgbClr val="000000"/>
                </a:solidFill>
                <a:latin typeface="Book Antiqua"/>
              </a:rPr>
              <a:t>. Se mantiene el régimen de mayorazgos, pero se establece que estas vinculaciones </a:t>
            </a:r>
            <a:r>
              <a:rPr b="0" i="1" lang="es-ES_tradnl" sz="1600" spc="-1" strike="noStrike">
                <a:solidFill>
                  <a:srgbClr val="000000"/>
                </a:solidFill>
                <a:latin typeface="Book Antiqua"/>
              </a:rPr>
              <a:t>no impiden la libre enajenación de las propiedades sobre que descansan, asegurándose a los sucesores llamados por la respectiva institución el valor de los que se enajenaren</a:t>
            </a:r>
            <a:r>
              <a:rPr b="0" lang="es-ES_tradnl" sz="1600" spc="-1" strike="noStrike">
                <a:solidFill>
                  <a:srgbClr val="000000"/>
                </a:solidFill>
                <a:latin typeface="Book Antiqua"/>
              </a:rPr>
              <a:t> de acuerdo con una ley que deberá dictarse oportunament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Legislativo, reside en el Congreso compuesto de la Cámara de Diputados y de la de Senadores. La primera se compone de miembros elegidos por los departamentos en votación directa y que duran tres años en sus cargos. El Senado se compone de 20 Senadores nombrados por electores que para este objeto designan los departamentos en número triple al de los diputados. Duran 9 años y se renuevan por terceras part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tre las atribuciones exclusivas del Congreso está la de </a:t>
            </a:r>
            <a:r>
              <a:rPr b="1" lang="es-ES_tradnl" sz="1600" spc="-1" strike="noStrike">
                <a:solidFill>
                  <a:srgbClr val="000000"/>
                </a:solidFill>
                <a:latin typeface="Book Antiqua"/>
              </a:rPr>
              <a:t>autorizar al Presidente de la República para que use de facultades extraordinarias, debiendo siempre señalarse expresamente las facultades que se les conceden y fijar un tiempo determinado a la duración de esta ley</a:t>
            </a:r>
            <a:r>
              <a:rPr b="0" lang="es-ES_tradnl" sz="1600" spc="-1" strike="noStrike">
                <a:solidFill>
                  <a:srgbClr val="000000"/>
                </a:solidFill>
                <a:latin typeface="Book Antiqua"/>
              </a:rPr>
              <a:t>. Son materias de ley y en consecuencia, exigen el acuerdo del Congreso, los siguientes asuntos sobre los cuales ha de legislarse periódicamen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Los presupuestos de gastos anuale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La fijación anual de las fuerzas de mar y tierr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La autorización del cobro de las contribuciones cada 18 mese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El permiso para que residan cuerpos del ejército permanente en el lugar de las sesiones del Congreso y 10 leguas a su circunferenci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tre las atribuciones exclusivas de la Cámara de Diputados, está la de acusar ante el Senado a los ministros de despacho, consejeros de Estado, jefes del ejército armada, intendentes y magistrados de los tribunales superiores de justicia. Al Senado toca juzgar a estos funcionari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lausuradas las sesiones ordinarias del Congreso, funcionará la “Comisión Conservadora” hasta el nuevo período de sesiones. Está ella compuesta de 7 Senadores designados por este cuerpo y tendrá por misión especial “velar sobre la observancia de la Constitución y de las ley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Un ciudadano con el título de Presidente de la República de Chile administra el Estado y es el Jefe Supremo de la Nación.</a:t>
            </a:r>
            <a:r>
              <a:rPr b="0" lang="es-ES_tradnl" sz="1600" spc="-1" strike="noStrike">
                <a:solidFill>
                  <a:srgbClr val="000000"/>
                </a:solidFill>
                <a:latin typeface="Book Antiqua"/>
              </a:rPr>
              <a:t>dura 5 años y puede ser reelecto en el período siguiente; debiendo ya mediar para un tercer nombramiento un período de 5 años. Se le designa por medio de electores, en número triple del total de diputados que corresponde a cada departamento. Cuando el Presidente se encuentra imposibilitado de ejercer el cargo, lo subroga con el título de Vice.Presidente el Ministro del Intr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on atribuciones especiales del Presidente:</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Nombrar y remover a su voluntad los Ministros del despacho, consejeros de Estado, intendentes y gobernadore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Ejercer el patronato eclesiástic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Oponer el veto absoluto a un proyecto de ley aprobado por el Congres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Declarar en estado de sitio uno o varios puntos de la Repúblic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Consejo de Estado estará integrado por los Ministros del despacho, miembros de las Cortes Superiores de Justicia, un eclesiástico, un general de ejercito o la armada, un jefe de oficina de hacienda, dos individuos que hayan servido los cargos de ministros de Estado o ministros diplomáticos y dos ex-Intendentes o gernadores o municipales. Fuera de asesorar al Presidente en la confección de los proyectos de ley, elabora las ternas para los altos cargos de la justicia y de la Iglesia y conoce de las contiendas de competencia entre las autoridades administrativa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arácter de la Constitu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de 1833 en su primitiva versión y antes de las reformas de que fué objeto a partir de 1871, estableció un régimen sui generis, con elementos del sistema presidencial y del parlamentario. De un lado el Presidente de la República gozaba de irresponsabilidad mientras se hallaba en ejercicio, nombraba a su voluntad a los ministros, intendentes y gobernadores, podía vetar por un año los proyectos de ley aprobados por el Congreso, disponía en determinados casos de facultades extraordinarias y por el estado de sitio podía suspender el imperio de la Constitución. Del otro lado, el Congreso tenía en sus manos autorizar el ejercicio de estas facultades extraordinarias, podia acusar a los ministros del despacho y denegar el trámite de leyes periódicas, que eran esenciales para el funcionamiento del gobiern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jenos a lucubraciones teóricas y librescas y sólo atentos a las necesidades reales del Chile de entonces, los constituyentes de 1833 buscaron una formulación legal capaz de traer la armonía entre los poderes públicos y evitar tanto el despotismo como la licencia. Ninguno de los poderes del Estado es capaz de operar por si solo; todos se hayan comprometidos en una obra común entrelazados de tal suerte que no pueden supeditarse en sus funciones. Este engranaje y equilibrio de poderes hace recordar el sistema dominante en los tiempos del régimen español, en que aparecían entremezcladas las atribuciones de Gobernadores y Audiencias, evitando de esta manera los excesos de uno y otr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carándose una vez más con las realidades, la Constitución prevé no sólo al funcionamiento político normal, sino también la posibilidad de agitaciones y de atentados contra el orden público, muy frecuentes en países faltos de experiencia y cultura cívicas, ordinarios para la conservación del régimen. Sin violar la Constitución, el Gobierno puede en tal caso concentrar el máximo de poder en sus manos, instaurando así una verdadera dictadura legal que salve airosa el principio de autoridad amenazad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Funcionamiento de la Constitución durante el Gobierno de Priet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mo un complemento a la Constitución se dictó en 1833 la ley electoral, que reglamentaba el ejercicio del sufragio, fijando el valor de la propiedad raiz y del capital en giro que se requería para ser elector. Correspondería a Juntas calificadoras que funcionarían en cada parroquia el proceder a la inscripción electoral. El ciudadano inscrito recibiría una boleta de calificación o certificado, con lo cual debería presentarse oportunamente a sufragar y cuya validez era de 3 años. El control que el Gobernador de cada departamento ejercía en el desarrollo del acto electoral, y la circunstancia de ser él un agente directo del Presidente de la República y de disponer de la fuerza armada, dieron al Ejecutivo una intervención decisiva en el acto electoral. El Gobierno pudo así contar con un Congreso adicto, capaz de secundar sus propósitos de orden, sin que esto signifique de ninguna manera negar la independencia de que dieron muestra los parlamentarios reclutados entre la gente más culta y estabilizada del paí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s frecuentes conspiraciones y la guerra contra la confederación Perú-Boliviana obligaron al Gobierno de Prieto, a usar de facultades extraordinarias en 1833 y en 1837, asegurando así la paz pública y el exito de la contienda internacional. En 1839, ya terminada la guerra y habiendo desaparecido con la muerte de Portales la hostilidad particular de algunos elementos, se volvió al régimen normal hasta el término del períod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NUEL BULNES PRIETO</a:t>
            </a:r>
            <a:br>
              <a:rPr sz="3200"/>
            </a:br>
            <a:r>
              <a:rPr b="1" lang="es-CL" sz="3200" spc="-1" strike="noStrike">
                <a:solidFill>
                  <a:srgbClr val="000066"/>
                </a:solidFill>
                <a:latin typeface="Book Antiqua"/>
              </a:rPr>
              <a:t>1841-1851</a:t>
            </a:r>
            <a:endParaRPr b="0" lang="en-US" sz="3200" spc="-1" strike="noStrike">
              <a:solidFill>
                <a:srgbClr val="301800"/>
              </a:solidFill>
              <a:latin typeface="Arial Narrow"/>
            </a:endParaRPr>
          </a:p>
        </p:txBody>
      </p:sp>
      <p:sp>
        <p:nvSpPr>
          <p:cNvPr id="231"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1</a:t>
            </a:r>
            <a:r>
              <a:rPr b="1" lang="es-CL" sz="1800" spc="-1" strike="noStrike">
                <a:solidFill>
                  <a:srgbClr val="000066"/>
                </a:solidFill>
                <a:latin typeface="Book Antiqua"/>
              </a:rPr>
              <a:t>	</a:t>
            </a:r>
            <a:r>
              <a:rPr b="1" lang="es-CL" sz="1800" spc="-1" strike="noStrike">
                <a:solidFill>
                  <a:srgbClr val="614020"/>
                </a:solidFill>
                <a:latin typeface="Book Antiqua"/>
              </a:rPr>
              <a:t>-Elecciones presidenciales, es elegido Manuel Bulnes Presidente d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 primera casa comercial chilena: Casa Bes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2</a:t>
            </a:r>
            <a:r>
              <a:rPr b="1" lang="es-CL" sz="1800" spc="-1" strike="noStrike">
                <a:solidFill>
                  <a:srgbClr val="000066"/>
                </a:solidFill>
                <a:latin typeface="Book Antiqua"/>
              </a:rPr>
              <a:t>	</a:t>
            </a:r>
            <a:r>
              <a:rPr b="1" lang="es-CL" sz="1800" spc="-1" strike="noStrike">
                <a:solidFill>
                  <a:srgbClr val="614020"/>
                </a:solidFill>
                <a:latin typeface="Book Antiqua"/>
              </a:rPr>
              <a:t>-Fundación de la Universidad de Chile, inicialmente compuesta de 5 facultades, y la Escuela Normal de Preceptor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 Sociedad Literaria bajo la dirección de José Victorino Lastarr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reación de la Quinta Normal para la enseñanza agrícol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3</a:t>
            </a:r>
            <a:r>
              <a:rPr b="1" lang="es-CL" sz="1800" spc="-1" strike="noStrike">
                <a:solidFill>
                  <a:srgbClr val="614020"/>
                </a:solidFill>
                <a:latin typeface="Book Antiqua"/>
              </a:rPr>
              <a:t>	</a:t>
            </a:r>
            <a:r>
              <a:rPr b="1" lang="es-CL" sz="1800" spc="-1" strike="noStrike">
                <a:solidFill>
                  <a:srgbClr val="614020"/>
                </a:solidFill>
                <a:latin typeface="Book Antiqua"/>
              </a:rPr>
              <a:t>-Ocupación del estrecho de Magallan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reación de la Oficina Nacional de Estadísticas. Se realiza Censo Nacional de Población: 1.080.000 habitant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nstrucción de la Penitenciar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4</a:t>
            </a:r>
            <a:r>
              <a:rPr b="1" lang="es-CL" sz="1800" spc="-1" strike="noStrike">
                <a:solidFill>
                  <a:srgbClr val="614020"/>
                </a:solidFill>
                <a:latin typeface="Book Antiqua"/>
              </a:rPr>
              <a:t>	</a:t>
            </a:r>
            <a:r>
              <a:rPr b="1" lang="es-CL" sz="1800" spc="-1" strike="noStrike">
                <a:solidFill>
                  <a:srgbClr val="614020"/>
                </a:solidFill>
                <a:latin typeface="Book Antiqua"/>
              </a:rPr>
              <a:t>-España reconoce la independencia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5</a:t>
            </a:r>
            <a:r>
              <a:rPr b="1" lang="es-CL" sz="1800" spc="-1" strike="noStrike">
                <a:solidFill>
                  <a:srgbClr val="614020"/>
                </a:solidFill>
                <a:latin typeface="Book Antiqua"/>
              </a:rPr>
              <a:t>	</a:t>
            </a:r>
            <a:r>
              <a:rPr b="1" lang="es-CL" sz="1800" spc="-1" strike="noStrike">
                <a:solidFill>
                  <a:srgbClr val="614020"/>
                </a:solidFill>
                <a:latin typeface="Book Antiqua"/>
              </a:rPr>
              <a:t>-Se decreta Ley de Colonizac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6</a:t>
            </a:r>
            <a:r>
              <a:rPr b="1" lang="es-CL" sz="1800" spc="-1" strike="noStrike">
                <a:solidFill>
                  <a:srgbClr val="000066"/>
                </a:solidFill>
                <a:latin typeface="Book Antiqua"/>
              </a:rPr>
              <a:t>	</a:t>
            </a:r>
            <a:r>
              <a:rPr b="1" lang="es-CL" sz="1800" spc="-1" strike="noStrike">
                <a:solidFill>
                  <a:srgbClr val="614020"/>
                </a:solidFill>
                <a:latin typeface="Book Antiqua"/>
              </a:rPr>
              <a:t>-El Palacio de la Moneda se establece como casa de gobierno</a:t>
            </a:r>
            <a:endParaRPr b="0" lang="en-US" sz="1800" spc="-1" strike="noStrike">
              <a:solidFill>
                <a:srgbClr val="000000"/>
              </a:solidFill>
              <a:latin typeface="Arial Narrow"/>
            </a:endParaRPr>
          </a:p>
        </p:txBody>
      </p:sp>
      <p:pic>
        <p:nvPicPr>
          <p:cNvPr id="232" name="" descr=""/>
          <p:cNvPicPr/>
          <p:nvPr/>
        </p:nvPicPr>
        <p:blipFill>
          <a:blip r:embed="rId1"/>
          <a:stretch/>
        </p:blipFill>
        <p:spPr>
          <a:xfrm>
            <a:off x="817560" y="0"/>
            <a:ext cx="1319040" cy="1989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042560" y="1828440"/>
            <a:ext cx="7921800" cy="48402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7</a:t>
            </a:r>
            <a:r>
              <a:rPr b="1" lang="es-CL" sz="1800" spc="-1" strike="noStrike">
                <a:solidFill>
                  <a:srgbClr val="614020"/>
                </a:solidFill>
                <a:latin typeface="Book Antiqua"/>
              </a:rPr>
              <a:t>	</a:t>
            </a:r>
            <a:r>
              <a:rPr b="1" lang="es-CL" sz="1800" spc="-1" strike="noStrike">
                <a:solidFill>
                  <a:srgbClr val="614020"/>
                </a:solidFill>
                <a:latin typeface="Book Antiqua"/>
              </a:rPr>
              <a:t>-Bernardo Philippi es enviado como agente de colonización a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lemania, con el fin de ocupar la provincia de Valdiv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ublicación del himno nacional con letra de Eusebio L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8</a:t>
            </a:r>
            <a:r>
              <a:rPr b="1" lang="es-CL" sz="1800" spc="-1" strike="noStrike">
                <a:solidFill>
                  <a:srgbClr val="614020"/>
                </a:solidFill>
                <a:latin typeface="Book Antiqua"/>
              </a:rPr>
              <a:t>	</a:t>
            </a:r>
            <a:r>
              <a:rPr b="1" lang="es-CL" sz="1800" spc="-1" strike="noStrike">
                <a:solidFill>
                  <a:srgbClr val="614020"/>
                </a:solidFill>
                <a:latin typeface="Book Antiqua"/>
              </a:rPr>
              <a:t>-Adopción del sistema métrico decim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9</a:t>
            </a:r>
            <a:r>
              <a:rPr b="1" lang="es-CL" sz="1800" spc="-1" strike="noStrike">
                <a:solidFill>
                  <a:srgbClr val="614020"/>
                </a:solidFill>
                <a:latin typeface="Book Antiqua"/>
              </a:rPr>
              <a:t>	</a:t>
            </a:r>
            <a:r>
              <a:rPr b="1" lang="es-CL" sz="1800" spc="-1" strike="noStrike">
                <a:solidFill>
                  <a:srgbClr val="614020"/>
                </a:solidFill>
                <a:latin typeface="Book Antiqua"/>
              </a:rPr>
              <a:t>-Fundación de la ciudad de Punta Are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s Escuelas de Bellas Artes, Arquitectura y Artes y Ofici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0</a:t>
            </a:r>
            <a:r>
              <a:rPr b="1" lang="es-CL" sz="1800" spc="-1" strike="noStrike">
                <a:solidFill>
                  <a:srgbClr val="000066"/>
                </a:solidFill>
                <a:latin typeface="Book Antiqua"/>
              </a:rPr>
              <a:t>	</a:t>
            </a:r>
            <a:r>
              <a:rPr b="1" lang="es-CL" sz="1800" spc="-1" strike="noStrike">
                <a:solidFill>
                  <a:srgbClr val="614020"/>
                </a:solidFill>
                <a:latin typeface="Book Antiqua"/>
              </a:rPr>
              <a:t>-Santiago Arcos funda la Sociedad de la Iguald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Vicente Pérez Rosales radica colonos alemanes en Valdiv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1</a:t>
            </a:r>
            <a:r>
              <a:rPr b="1" lang="es-CL" sz="1800" spc="-1" strike="noStrike">
                <a:solidFill>
                  <a:srgbClr val="614020"/>
                </a:solidFill>
                <a:latin typeface="Book Antiqua"/>
              </a:rPr>
              <a:t>	</a:t>
            </a:r>
            <a:r>
              <a:rPr b="1" lang="es-CL" sz="1800" spc="-1" strike="noStrike">
                <a:solidFill>
                  <a:srgbClr val="614020"/>
                </a:solidFill>
                <a:latin typeface="Book Antiqua"/>
              </a:rPr>
              <a:t>-Se crea el primer Cuerpo de Bomberos en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inaugura el primer ferrocarril en territorio chileno entre Copiapó y Caldera, cuya construcción fue posible gracias a la iniciativa de Guillermo Wheelwright</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durant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el Gobierno de Bulnes.</a:t>
            </a:r>
            <a:endParaRPr b="0" lang="en-US" sz="3200" spc="-1" strike="noStrike">
              <a:solidFill>
                <a:srgbClr val="000000"/>
              </a:solidFill>
              <a:latin typeface="Arial"/>
            </a:endParaRPr>
          </a:p>
        </p:txBody>
      </p:sp>
      <p:sp>
        <p:nvSpPr>
          <p:cNvPr id="23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paulatina maduración de la conciencia cívica permite enrielar sobre base jurídica la vida política, el punto de que el hábito de hacer oposición al gobierno de manera ordenada va echando cada vez más raíces. En 1846, Don Joaquín Tocornal, escribe a su hijo don Manuel Antonio manifestándole que el Congreso ha de estar compuesto de hombres capaces de formar una mayoría y resueltos a negar su voto al Ministerio cuando lo creyesen conveniente, que esta era la arma más poderosa en el régimen constitucional para deshacerse de un ministerio que no marchaba bien sin necesidad de artículos sucios por la prensa, ni revueltas, en que tanto perdía el paí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va introduciendo en el Congreso la costumbre de practicar interpelaciones a los Ministros. Esta costumbre queda incluída como derecho en 1846 en el Reglamento de la Cámara de Diputados, por iniciativa de don Manuel Antonio Tocornal. A veces se recurre también al sistema de detener el despacho de las leyes periódicas, como medio de hacer cambiar al gobierno de rumbos. Así, el 3 de Noviembre de 1841, a indicación de don Mariano Egaña acordó postergar eld espacho de las leyes de presupuestos y contribuciones hasta obtener del Ejecutivo que incluyese 2 proyectos de ley en la convocatoria a sesiones extraordinarias, cosa que se logró de inmediato. En Enero de 1850, la oposición liberal intentó impedir el despacho de la ley de contribuciones produciéndose en la Cámara un apasionado debate en el que don Manuel Montt defendió al Gobier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228600"/>
            <a:ext cx="7086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Primera Junta de Gobierno</a:t>
            </a:r>
            <a:endParaRPr b="0" lang="en-US" sz="3200" spc="-1" strike="noStrike">
              <a:solidFill>
                <a:srgbClr val="301800"/>
              </a:solidFill>
              <a:latin typeface="Arial Narrow"/>
            </a:endParaRPr>
          </a:p>
        </p:txBody>
      </p:sp>
      <p:sp>
        <p:nvSpPr>
          <p:cNvPr id="158" name="PlaceHolder 2"/>
          <p:cNvSpPr>
            <a:spLocks noGrp="1"/>
          </p:cNvSpPr>
          <p:nvPr>
            <p:ph/>
          </p:nvPr>
        </p:nvSpPr>
        <p:spPr>
          <a:xfrm>
            <a:off x="1066320" y="1676520"/>
            <a:ext cx="8077320" cy="4419360"/>
          </a:xfrm>
          <a:prstGeom prst="rect">
            <a:avLst/>
          </a:prstGeom>
          <a:noFill/>
          <a:ln w="0">
            <a:noFill/>
          </a:ln>
        </p:spPr>
        <p:txBody>
          <a:bodyPr lIns="92160" rIns="92160" tIns="46080" bIns="46080" anchor="t">
            <a:normAutofit fontScale="96000"/>
          </a:bodyPr>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resistencia del Gobernador Francisco Antonio García Carrasco a toda reforma y las medidas de violencia emprendidas por él en contra de los criollos José Antonio de Rojas, Juan Antonio Ovalle y Bernardo de Vera Pintado, a quienes supone, sin fundamentos, propósitos separatistas, produce una fuerte reacción en el Cabildo de Santiago capitaneado en 1810 por el Alcalde Agustín de Eyzaguirre y el Procurador José Miguel Infante. Se obtiene el 16 de Julio la renuncia de Carrasco y el 18 de Septiembre la instalación de la Junta de Gobierno presidida por el Conde de la Conquista, Mateo de Toro Zambrano, que asume el poder en nombre de Fernando VII para tutelar sus derechos. Según el acta del Cabildo abierto del 18 de septiembre, el Procurador Infante hizo ver a los congregados que el Consejo de Regencia había remitido el acta de instalación de la Junta de Cádiz “advirtiendo a las Américas que ésta podría servir de modeli a los pueblos que quieran elegirse un Gobierno representativo”, y dejó constancia asimismo “que a este pueblo asistían las mismas prerrogativas y derechos que a los de España para fijar un Gobierno igual”.</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movimiento juntista fue activado en Chile por la circulación de diversos pasquines de propaganda. Entre ellos se ha señalado por su importante contenido doctrinario el “</a:t>
            </a:r>
            <a:r>
              <a:rPr b="1" lang="es-ES_tradnl" sz="1600" spc="-1" strike="noStrike">
                <a:solidFill>
                  <a:srgbClr val="000000"/>
                </a:solidFill>
                <a:latin typeface="Book Antiqua"/>
              </a:rPr>
              <a:t>Catecismo político cristiano</a:t>
            </a:r>
            <a:r>
              <a:rPr b="0" lang="es-ES_tradnl" sz="1600" spc="-1" strike="noStrike">
                <a:solidFill>
                  <a:srgbClr val="000000"/>
                </a:solidFill>
                <a:latin typeface="Book Antiqua"/>
              </a:rPr>
              <a:t>”, suscrito por don José Amor de la Patria.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enseñanza y propaganda de Lastarria en pro de la reforma constitucional se abre camino en la juventud del nuevo partido Liberal. En 1850 don Federico Errázuriz Zañartu propone a la Cámara, con el apoyo de Lastarria, un proyecto de reforma constitucional encaminado a reducir el poder Presidencial de la República, que no encuentra mayor ec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NUEL MONTT TORRES</a:t>
            </a:r>
            <a:br>
              <a:rPr sz="3200"/>
            </a:br>
            <a:r>
              <a:rPr b="1" lang="es-CL" sz="3200" spc="-1" strike="noStrike">
                <a:solidFill>
                  <a:srgbClr val="000066"/>
                </a:solidFill>
                <a:latin typeface="Book Antiqua"/>
              </a:rPr>
              <a:t>1851-1861</a:t>
            </a:r>
            <a:endParaRPr b="0" lang="en-US" sz="3200" spc="-1" strike="noStrike">
              <a:solidFill>
                <a:srgbClr val="301800"/>
              </a:solidFill>
              <a:latin typeface="Arial Narrow"/>
            </a:endParaRPr>
          </a:p>
        </p:txBody>
      </p:sp>
      <p:sp>
        <p:nvSpPr>
          <p:cNvPr id="238" name="PlaceHolder 2"/>
          <p:cNvSpPr>
            <a:spLocks noGrp="1"/>
          </p:cNvSpPr>
          <p:nvPr>
            <p:ph type="subTitle"/>
          </p:nvPr>
        </p:nvSpPr>
        <p:spPr>
          <a:xfrm>
            <a:off x="1116000" y="2060280"/>
            <a:ext cx="784872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1</a:t>
            </a:r>
            <a:r>
              <a:rPr b="1" lang="es-CL" sz="1800" spc="-1" strike="noStrike">
                <a:solidFill>
                  <a:srgbClr val="614020"/>
                </a:solidFill>
                <a:latin typeface="Book Antiqua"/>
              </a:rPr>
              <a:t>	</a:t>
            </a:r>
            <a:r>
              <a:rPr b="1" lang="es-CL" sz="1800" spc="-1" strike="noStrike">
                <a:solidFill>
                  <a:srgbClr val="614020"/>
                </a:solidFill>
                <a:latin typeface="Book Antiqua"/>
              </a:rPr>
              <a:t>-Manuel Montt es elegido Presidente de 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2</a:t>
            </a:r>
            <a:r>
              <a:rPr b="1" lang="es-CL" sz="1800" spc="-1" strike="noStrike">
                <a:solidFill>
                  <a:srgbClr val="614020"/>
                </a:solidFill>
                <a:latin typeface="Book Antiqua"/>
              </a:rPr>
              <a:t>	</a:t>
            </a:r>
            <a:r>
              <a:rPr b="1" lang="es-CL" sz="1800" spc="-1" strike="noStrike">
                <a:solidFill>
                  <a:srgbClr val="614020"/>
                </a:solidFill>
                <a:latin typeface="Book Antiqua"/>
              </a:rPr>
              <a:t>-Abolición de los mayorazg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mienza a usarse el sistema de telégrafo eléctrico entre Santiago y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3</a:t>
            </a:r>
            <a:r>
              <a:rPr b="1" lang="es-CL" sz="1800" spc="-1" strike="noStrike">
                <a:solidFill>
                  <a:srgbClr val="000066"/>
                </a:solidFill>
                <a:latin typeface="Book Antiqua"/>
              </a:rPr>
              <a:t>	</a:t>
            </a:r>
            <a:r>
              <a:rPr b="1" lang="es-CL" sz="1800" spc="-1" strike="noStrike">
                <a:solidFill>
                  <a:srgbClr val="614020"/>
                </a:solidFill>
                <a:latin typeface="Book Antiqua"/>
              </a:rPr>
              <a:t>- Vicente Pérez Rosales funda la ciudad de Melipulli (actual Puerto Montt)</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adopta el sistema de estampillas de corre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 sociedad de Tipógrafos en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odulfo Philippi es nombrado director del Museo Nacion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4</a:t>
            </a:r>
            <a:r>
              <a:rPr b="1" lang="es-CL" sz="1800" spc="-1" strike="noStrike">
                <a:solidFill>
                  <a:srgbClr val="614020"/>
                </a:solidFill>
                <a:latin typeface="Book Antiqua"/>
              </a:rPr>
              <a:t>	</a:t>
            </a:r>
            <a:r>
              <a:rPr b="1" lang="es-CL" sz="1800" spc="-1" strike="noStrike">
                <a:solidFill>
                  <a:srgbClr val="614020"/>
                </a:solidFill>
                <a:latin typeface="Book Antiqua"/>
              </a:rPr>
              <a:t>-Fundación de la primera Escuela Nacional de Preceptoras, confiada a las monjas del Sagrado corazón de Jesús. Las alumnas son internas y reciben una pensión anu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5 </a:t>
            </a:r>
            <a:r>
              <a:rPr b="1" lang="es-CL" sz="1800" spc="-1" strike="noStrike">
                <a:solidFill>
                  <a:srgbClr val="614020"/>
                </a:solidFill>
                <a:latin typeface="Book Antiqua"/>
              </a:rPr>
              <a:t>-Promulgación del  Código Civil, cuya redacción se debe a don Andrés Bello. El Código se basa en los principios del derecho romano, en el Código de Napoleón y en las antiguas leyes españolas </a:t>
            </a:r>
            <a:endParaRPr b="0" lang="en-US" sz="1800" spc="-1" strike="noStrike">
              <a:solidFill>
                <a:srgbClr val="000000"/>
              </a:solidFill>
              <a:latin typeface="Arial Narrow"/>
            </a:endParaRPr>
          </a:p>
        </p:txBody>
      </p:sp>
      <p:pic>
        <p:nvPicPr>
          <p:cNvPr id="239" name="" descr=""/>
          <p:cNvPicPr/>
          <p:nvPr/>
        </p:nvPicPr>
        <p:blipFill>
          <a:blip r:embed="rId1"/>
          <a:stretch/>
        </p:blipFill>
        <p:spPr>
          <a:xfrm>
            <a:off x="755640" y="0"/>
            <a:ext cx="1608120" cy="198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042560" y="1828440"/>
            <a:ext cx="7921800" cy="4840200"/>
          </a:xfrm>
          <a:prstGeom prst="rect">
            <a:avLst/>
          </a:prstGeom>
          <a:noFill/>
          <a:ln w="0">
            <a:noFill/>
          </a:ln>
        </p:spPr>
        <p:txBody>
          <a:bodyPr lIns="92160" rIns="92160" tIns="46080" bIns="46080" anchor="t">
            <a:normAutofit fontScale="94000"/>
          </a:bodyPr>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la Caja de Crédito Hipotecario, cuyo objeto es fomentar la</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gricultura mediante la concesión de préstamos sobre hipoteca</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el primer banco autorizado: Banco de Valparaís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6</a:t>
            </a:r>
            <a:r>
              <a:rPr b="1" lang="es-CL" sz="1800" spc="-1" strike="noStrike">
                <a:solidFill>
                  <a:srgbClr val="614020"/>
                </a:solidFill>
                <a:latin typeface="Book Antiqua"/>
              </a:rPr>
              <a:t>	</a:t>
            </a:r>
            <a:r>
              <a:rPr b="1" lang="es-CL" sz="1800" spc="-1" strike="noStrike">
                <a:solidFill>
                  <a:srgbClr val="614020"/>
                </a:solidFill>
                <a:latin typeface="Book Antiqua"/>
              </a:rPr>
              <a:t>-Gas hidrógeno en el alumbrado público de las ciudades de</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antiago y Valparaís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greso de los Jesuitas, establecen el Colegio San Ignaci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7</a:t>
            </a:r>
            <a:r>
              <a:rPr b="1" lang="es-CL" sz="1800" spc="-1" strike="noStrike">
                <a:solidFill>
                  <a:srgbClr val="614020"/>
                </a:solidFill>
                <a:latin typeface="Book Antiqua"/>
              </a:rPr>
              <a:t>	</a:t>
            </a:r>
            <a:r>
              <a:rPr b="1" lang="es-CL" sz="1800" spc="-1" strike="noStrike">
                <a:solidFill>
                  <a:srgbClr val="614020"/>
                </a:solidFill>
                <a:latin typeface="Book Antiqua"/>
              </a:rPr>
              <a:t>-Se inaugura el Teatro Municipal de Santiag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rimeras vías de tranvías a tracción animal, llamados “carros de sangre” utilizados para el transporte públic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8</a:t>
            </a:r>
            <a:r>
              <a:rPr b="1" lang="es-CL" sz="1800" spc="-1" strike="noStrike">
                <a:solidFill>
                  <a:srgbClr val="614020"/>
                </a:solidFill>
                <a:latin typeface="Book Antiqua"/>
              </a:rPr>
              <a:t>	</a:t>
            </a:r>
            <a:r>
              <a:rPr b="1" lang="es-CL" sz="1800" spc="-1" strike="noStrike">
                <a:solidFill>
                  <a:srgbClr val="614020"/>
                </a:solidFill>
                <a:latin typeface="Book Antiqua"/>
              </a:rPr>
              <a:t>-Fusión Liberal Conservadora</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9</a:t>
            </a:r>
            <a:r>
              <a:rPr b="1" lang="es-CL" sz="1800" spc="-1" strike="noStrike">
                <a:solidFill>
                  <a:srgbClr val="614020"/>
                </a:solidFill>
                <a:latin typeface="Book Antiqua"/>
              </a:rPr>
              <a:t>	</a:t>
            </a:r>
            <a:r>
              <a:rPr b="1" lang="es-CL" sz="1800" spc="-1" strike="noStrike">
                <a:solidFill>
                  <a:srgbClr val="614020"/>
                </a:solidFill>
                <a:latin typeface="Book Antiqua"/>
              </a:rPr>
              <a:t>-Se funda el Banco de Chile</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0</a:t>
            </a:r>
            <a:r>
              <a:rPr b="1" lang="es-CL" sz="1800" spc="-1" strike="noStrike">
                <a:solidFill>
                  <a:srgbClr val="614020"/>
                </a:solidFill>
                <a:latin typeface="Book Antiqua"/>
              </a:rPr>
              <a:t>	</a:t>
            </a:r>
            <a:r>
              <a:rPr b="1" lang="es-CL" sz="1800" spc="-1" strike="noStrike">
                <a:solidFill>
                  <a:srgbClr val="614020"/>
                </a:solidFill>
                <a:latin typeface="Book Antiqua"/>
              </a:rPr>
              <a:t>-Promulgación de la Ley de Instrucción Primaria, que establece la gratuidad de la enseñanza y se encarga de la dirección de la educación primaria a funcionarios especializados</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1</a:t>
            </a:r>
            <a:r>
              <a:rPr b="1" lang="es-CL" sz="1800" spc="-1" strike="noStrike">
                <a:solidFill>
                  <a:srgbClr val="614020"/>
                </a:solidFill>
                <a:latin typeface="Book Antiqua"/>
              </a:rPr>
              <a:t>	</a:t>
            </a:r>
            <a:r>
              <a:rPr b="1" lang="es-CL" sz="1800" spc="-1" strike="noStrike">
                <a:solidFill>
                  <a:srgbClr val="614020"/>
                </a:solidFill>
                <a:latin typeface="Book Antiqua"/>
              </a:rPr>
              <a:t>-Se crea la Caja de Ahorros, bajo responsabilidad del Estad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bajo 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Gobierno de Montt.</a:t>
            </a:r>
            <a:endParaRPr b="0" lang="en-US" sz="3200" spc="-1" strike="noStrike">
              <a:solidFill>
                <a:srgbClr val="000000"/>
              </a:solidFill>
              <a:latin typeface="Arial"/>
            </a:endParaRPr>
          </a:p>
        </p:txBody>
      </p:sp>
      <p:sp>
        <p:nvSpPr>
          <p:cNvPr id="24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vicción de que es posible hacer cambiar al gobierno de rumbos negándole el despacho de las leyes periódicas, se hace también presente durante el decenio de Montt. El 10 de agosto de 1857 la mayoría del Senado acordó aplazar la aprobación de la ley de presupuestos hasta que el Presidente cmabiara de Gabinete, como medio de asegurar la libertad en las elecciones del año siguiente. Montt se resistió y aun llegó a redactar su renuncia antes de ceder a la presión del Senado. Al fin se resolvió a efectuar el cambio, aunque el despacho del presupuesto pues una vez clausuradas las sesiones del Congreso, que ya terminaba su período presidente volció a nmbrar ministros de su agrado con los que intervino resueltamente en las elecciones parlamentarias de 1858.</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estado de agitación que caracterizó parte del gobierno de Montt, obligó a este a recurrir con frecuencia a las facultades extraordinarias. Desde luego él se inició el 18 de septiembre de 1851, con facultades acordadas 4 días antes para reprimir la revolución del cnadidato vencido, General Cruz. Montt uso de ellas hasta el 1º de Junio de 1853. Montt decretó el 12 de diciembre de 1858 el estado de sitio y ejercio por segunda vez facultades extraordinarias a partir del 20 de enero de 1859, en que había ya estallado el alzamiento en las provincias, hasta el término de su perío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idea de ir a la reforma de la constitución es defendida por los elementos liberales en la prensa, la cátedra y el parlamen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JOAQUIN PEREZ MASCAYANO  1861-1871</a:t>
            </a:r>
            <a:endParaRPr b="0" lang="en-US" sz="3200" spc="-1" strike="noStrike">
              <a:solidFill>
                <a:srgbClr val="301800"/>
              </a:solidFill>
              <a:latin typeface="Arial Narrow"/>
            </a:endParaRPr>
          </a:p>
        </p:txBody>
      </p:sp>
      <p:sp>
        <p:nvSpPr>
          <p:cNvPr id="244"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1</a:t>
            </a:r>
            <a:r>
              <a:rPr b="1" lang="es-CL" sz="1800" spc="-1" strike="noStrike">
                <a:solidFill>
                  <a:srgbClr val="614020"/>
                </a:solidFill>
                <a:latin typeface="Book Antiqua"/>
              </a:rPr>
              <a:t>	</a:t>
            </a:r>
            <a:r>
              <a:rPr b="1" lang="es-CL" sz="1800" spc="-1" strike="noStrike">
                <a:solidFill>
                  <a:srgbClr val="614020"/>
                </a:solidFill>
                <a:latin typeface="Book Antiqua"/>
              </a:rPr>
              <a:t>-José Joaquín Pérez es elegido Presidente de 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2</a:t>
            </a:r>
            <a:r>
              <a:rPr b="1" lang="es-CL" sz="1800" spc="-1" strike="noStrike">
                <a:solidFill>
                  <a:srgbClr val="614020"/>
                </a:solidFill>
                <a:latin typeface="Book Antiqua"/>
              </a:rPr>
              <a:t>	</a:t>
            </a:r>
            <a:r>
              <a:rPr b="1" lang="es-CL" sz="1800" spc="-1" strike="noStrike">
                <a:solidFill>
                  <a:srgbClr val="614020"/>
                </a:solidFill>
                <a:latin typeface="Book Antiqua"/>
              </a:rPr>
              <a:t>-Fundación del Partido Radic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lberto Blest Gana publica “</a:t>
            </a:r>
            <a:r>
              <a:rPr b="1" i="1" lang="es-CL" sz="1800" spc="-1" strike="noStrike">
                <a:solidFill>
                  <a:srgbClr val="614020"/>
                </a:solidFill>
                <a:latin typeface="Book Antiqua"/>
              </a:rPr>
              <a:t>Martín Riv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3</a:t>
            </a:r>
            <a:r>
              <a:rPr b="1" lang="es-CL" sz="1800" spc="-1" strike="noStrike">
                <a:solidFill>
                  <a:srgbClr val="614020"/>
                </a:solidFill>
                <a:latin typeface="Book Antiqua"/>
              </a:rPr>
              <a:t>	</a:t>
            </a:r>
            <a:r>
              <a:rPr b="1" lang="es-CL" sz="1800" spc="-1" strike="noStrike">
                <a:solidFill>
                  <a:srgbClr val="614020"/>
                </a:solidFill>
                <a:latin typeface="Book Antiqua"/>
              </a:rPr>
              <a:t>-Inauguración del ferrocarril Santiago-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crea la Primera Compañía de Bomberos de Santiago, luego del incendio de la iglesia de la Compañ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5</a:t>
            </a:r>
            <a:r>
              <a:rPr b="1" lang="es-CL" sz="1800" spc="-1" strike="noStrike">
                <a:solidFill>
                  <a:srgbClr val="614020"/>
                </a:solidFill>
                <a:latin typeface="Book Antiqua"/>
              </a:rPr>
              <a:t>	</a:t>
            </a:r>
            <a:r>
              <a:rPr b="1" lang="es-CL" sz="1800" spc="-1" strike="noStrike">
                <a:solidFill>
                  <a:srgbClr val="614020"/>
                </a:solidFill>
                <a:latin typeface="Book Antiqua"/>
              </a:rPr>
              <a:t>-Se establece la libertad de cult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hile declara la guerra a Españ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enso nacional: 1.800.000 habitant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6</a:t>
            </a:r>
            <a:r>
              <a:rPr b="1" lang="es-CL" sz="1800" spc="-1" strike="noStrike">
                <a:solidFill>
                  <a:srgbClr val="614020"/>
                </a:solidFill>
                <a:latin typeface="Book Antiqua"/>
              </a:rPr>
              <a:t>	</a:t>
            </a:r>
            <a:r>
              <a:rPr b="1" lang="es-CL" sz="1800" spc="-1" strike="noStrike">
                <a:solidFill>
                  <a:srgbClr val="614020"/>
                </a:solidFill>
                <a:latin typeface="Book Antiqua"/>
              </a:rPr>
              <a:t>-Se firma un tratado de alianza entre Chile, Perú, Ecuador y Bolib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a Universidad de Chile se traslada a su actual edifici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8</a:t>
            </a:r>
            <a:r>
              <a:rPr b="1" lang="es-CL" sz="1800" spc="-1" strike="noStrike">
                <a:solidFill>
                  <a:srgbClr val="614020"/>
                </a:solidFill>
                <a:latin typeface="Book Antiqua"/>
              </a:rPr>
              <a:t>	</a:t>
            </a:r>
            <a:r>
              <a:rPr b="1" lang="es-CL" sz="1800" spc="-1" strike="noStrike">
                <a:solidFill>
                  <a:srgbClr val="614020"/>
                </a:solidFill>
                <a:latin typeface="Book Antiqua"/>
              </a:rPr>
              <a:t>-El coronel Saavedra inicia la colonización de la Araucan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el Club de la Unión y el Club Híp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inaugura la exposición Internacional de Santiago, en la cual participan 28 naciones con sus respectivos productos</a:t>
            </a:r>
            <a:endParaRPr b="0" lang="en-US" sz="1800" spc="-1" strike="noStrike">
              <a:solidFill>
                <a:srgbClr val="000000"/>
              </a:solidFill>
              <a:latin typeface="Arial Narrow"/>
            </a:endParaRPr>
          </a:p>
        </p:txBody>
      </p:sp>
      <p:pic>
        <p:nvPicPr>
          <p:cNvPr id="245" name="" descr=""/>
          <p:cNvPicPr/>
          <p:nvPr/>
        </p:nvPicPr>
        <p:blipFill>
          <a:blip r:embed="rId1"/>
          <a:stretch/>
        </p:blipFill>
        <p:spPr>
          <a:xfrm>
            <a:off x="826920" y="0"/>
            <a:ext cx="1414800" cy="1989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042920" y="1828440"/>
            <a:ext cx="785016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0</a:t>
            </a:r>
            <a:r>
              <a:rPr b="1" lang="es-CL" sz="1800" spc="-1" strike="noStrike">
                <a:solidFill>
                  <a:srgbClr val="614020"/>
                </a:solidFill>
                <a:latin typeface="Book Antiqua"/>
              </a:rPr>
              <a:t>	</a:t>
            </a:r>
            <a:r>
              <a:rPr b="1" lang="es-CL" sz="1800" spc="-1" strike="noStrike">
                <a:solidFill>
                  <a:srgbClr val="614020"/>
                </a:solidFill>
                <a:latin typeface="Book Antiqua"/>
              </a:rPr>
              <a:t>-Se descubre el mineral de plata de Caraco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Hace su aparición en el paseo de la Alameda, el primer velocípedo de rueda delantera al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1</a:t>
            </a:r>
            <a:r>
              <a:rPr b="1" lang="es-CL" sz="1800" spc="-1" strike="noStrike">
                <a:solidFill>
                  <a:srgbClr val="614020"/>
                </a:solidFill>
                <a:latin typeface="Book Antiqua"/>
              </a:rPr>
              <a:t>	</a:t>
            </a:r>
            <a:r>
              <a:rPr b="1" lang="es-CL" sz="1800" spc="-1" strike="noStrike">
                <a:solidFill>
                  <a:srgbClr val="614020"/>
                </a:solidFill>
                <a:latin typeface="Book Antiqua"/>
              </a:rPr>
              <a:t>- Se reforma la Constitución de 1833, prohibiendo la reelección del Presidente de la República para el período inmediato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bajo 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Gobierno de Pérez.</a:t>
            </a:r>
            <a:endParaRPr b="0" lang="en-US" sz="3200" spc="-1" strike="noStrike">
              <a:solidFill>
                <a:srgbClr val="000000"/>
              </a:solidFill>
              <a:latin typeface="Arial"/>
            </a:endParaRPr>
          </a:p>
        </p:txBody>
      </p:sp>
      <p:sp>
        <p:nvSpPr>
          <p:cNvPr id="248"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 un lado la propaganda de los Clubs de la Reforma y del otro la conciencia dominante entre los personeros de la “fusión liberal conservadora” de que al país había entrado a una etapa de madurez política que erigía reducir el poder presidencial, van abriendo camino a la reforma de la Constitución Política de 183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65 se inicia en la Cámara el debate reformista, concretándose al tema de la libertad de cultos. La propiciaban ardorosamente los radicales don Manuel Recabarren, don Juan Espejo y don Manuel Antonio Matta, y la combaten don Federico Errázuriz y don Joaquín Larraín Gandarillas. Al fin el precepto constitucional queda invariable, pero se aprueba una ley interpretativa del artículo 5°, que es promulgada el 27 de Julio de 1865, por la que se permite a los no católicos el culto en los edificios de propiedad particular, y fundar u sostener escuelas privadas para la enseñanza de sus hijos en su propia relig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67, el Congreso declaró reformable la Constitución, correspondiendo, de acuerdo con sus preceptos, al Congreso de 1870 pronunciarse sobre los artículos cuya modificación se había señalado. En la sesión del 3 de Junio de 1870 se presentaron al Senado dos proyectos de reforma, uno de don Federico Errázuriz y otro de don Melchor de Santiago-Concha, fundados ambos en el acuerdo de 1867. De todas las reformas propuestas sólo se aprobó y promulgó como ley, el 8 de agosto de 1871, la que dispone que el presidente durará 5 años y no puede ser reelegido en el período inmedia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69 se dictó una nueva ley electoral, que dejó en manos de las Municipalidades el nombramiento de las Juntas Calificadoras y creó las Juntas Revisoras elegidas por sorteo entre los mayores contribuyentes de la comuna, procurando en esta forma sustraer el acto eleccionario de influencias polític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FEDERICO ERRAZURIZ ZAÑARTU  1871-1876</a:t>
            </a:r>
            <a:endParaRPr b="0" lang="en-US" sz="3200" spc="-1" strike="noStrike">
              <a:solidFill>
                <a:srgbClr val="301800"/>
              </a:solidFill>
              <a:latin typeface="Arial Narrow"/>
            </a:endParaRPr>
          </a:p>
        </p:txBody>
      </p:sp>
      <p:sp>
        <p:nvSpPr>
          <p:cNvPr id="251" name="PlaceHolder 2"/>
          <p:cNvSpPr>
            <a:spLocks noGrp="1"/>
          </p:cNvSpPr>
          <p:nvPr>
            <p:ph type="subTitle"/>
          </p:nvPr>
        </p:nvSpPr>
        <p:spPr>
          <a:xfrm>
            <a:off x="1042560" y="1989000"/>
            <a:ext cx="7921800" cy="468000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1</a:t>
            </a:r>
            <a:r>
              <a:rPr b="1" lang="es-CL" sz="1800" spc="-1" strike="noStrike">
                <a:solidFill>
                  <a:srgbClr val="614020"/>
                </a:solidFill>
                <a:latin typeface="Book Antiqua"/>
              </a:rPr>
              <a:t>	</a:t>
            </a:r>
            <a:r>
              <a:rPr b="1" lang="es-CL" sz="1800" spc="-1" strike="noStrike">
                <a:solidFill>
                  <a:srgbClr val="614020"/>
                </a:solidFill>
                <a:latin typeface="Book Antiqua"/>
              </a:rPr>
              <a:t>-Federico Errázuriz es elegido Presidente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2</a:t>
            </a:r>
            <a:r>
              <a:rPr b="1" lang="es-CL" sz="1800" spc="-1" strike="noStrike">
                <a:solidFill>
                  <a:srgbClr val="614020"/>
                </a:solidFill>
                <a:latin typeface="Book Antiqua"/>
              </a:rPr>
              <a:t>	</a:t>
            </a:r>
            <a:r>
              <a:rPr b="1" lang="es-CL" sz="1800" spc="-1" strike="noStrike">
                <a:solidFill>
                  <a:srgbClr val="614020"/>
                </a:solidFill>
                <a:latin typeface="Book Antiqua"/>
              </a:rPr>
              <a:t>-Se inaugura el paseo de Santa Lucía, obra del intendente Benjamín Vicuña Mackenn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3</a:t>
            </a:r>
            <a:r>
              <a:rPr b="1" lang="es-CL" sz="1800" spc="-1" strike="noStrike">
                <a:solidFill>
                  <a:srgbClr val="614020"/>
                </a:solidFill>
                <a:latin typeface="Book Antiqua"/>
              </a:rPr>
              <a:t>	</a:t>
            </a:r>
            <a:r>
              <a:rPr b="1" lang="es-CL" sz="1800" spc="-1" strike="noStrike">
                <a:solidFill>
                  <a:srgbClr val="614020"/>
                </a:solidFill>
                <a:latin typeface="Book Antiqua"/>
              </a:rPr>
              <a:t>-Luis Cousiño dona el Parque Cousiño a la ciudad de Santiag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hile figura como el primer exportador de cobre del mundo, debido principalmente a la producción del mineral Tamay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la Bolsa de Comercio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inicia una serie de reformas a la constitución de 1833, que tienden a disminuir el poder del Presidente y aumentar el del Congre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4</a:t>
            </a:r>
            <a:r>
              <a:rPr b="1" lang="es-CL" sz="1800" spc="-1" strike="noStrike">
                <a:solidFill>
                  <a:srgbClr val="614020"/>
                </a:solidFill>
                <a:latin typeface="Book Antiqua"/>
              </a:rPr>
              <a:t>	</a:t>
            </a:r>
            <a:r>
              <a:rPr b="1" lang="es-CL" sz="1800" spc="-1" strike="noStrike">
                <a:solidFill>
                  <a:srgbClr val="614020"/>
                </a:solidFill>
                <a:latin typeface="Book Antiqua"/>
              </a:rPr>
              <a:t>- Se inicia la producción de ganadería ovejuna en la Patagonia, con lo cual comienza el exterminio de la población selk nam</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mienza la explotación de las minas de carbón de Schwager, en Corone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52" name="" descr=""/>
          <p:cNvPicPr/>
          <p:nvPr/>
        </p:nvPicPr>
        <p:blipFill>
          <a:blip r:embed="rId1"/>
          <a:stretch/>
        </p:blipFill>
        <p:spPr>
          <a:xfrm>
            <a:off x="604800" y="0"/>
            <a:ext cx="1514520" cy="1989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042920" y="1828800"/>
            <a:ext cx="7850160" cy="46958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reconocen, constitucionalmente, los derechos de asociación y reuni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5</a:t>
            </a:r>
            <a:r>
              <a:rPr b="1" lang="es-CL" sz="1800" spc="-1" strike="noStrike">
                <a:solidFill>
                  <a:srgbClr val="614020"/>
                </a:solidFill>
                <a:latin typeface="Book Antiqua"/>
              </a:rPr>
              <a:t>	</a:t>
            </a:r>
            <a:r>
              <a:rPr b="1" lang="es-CL" sz="1800" spc="-1" strike="noStrike">
                <a:solidFill>
                  <a:srgbClr val="614020"/>
                </a:solidFill>
                <a:latin typeface="Book Antiqua"/>
              </a:rPr>
              <a:t>- Censo Nacional de Población: poco más de 2 millones de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 exposición  internacional en la que se exponen fotografías de chilenos y extranje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dacta el Código de Miner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 Exposición Industrial en la Quinta Norm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6</a:t>
            </a:r>
            <a:r>
              <a:rPr b="1" lang="es-CL" sz="1800" spc="-1" strike="noStrike">
                <a:solidFill>
                  <a:srgbClr val="614020"/>
                </a:solidFill>
                <a:latin typeface="Book Antiqua"/>
              </a:rPr>
              <a:t>	</a:t>
            </a:r>
            <a:r>
              <a:rPr b="1" lang="es-CL" sz="1800" spc="-1" strike="noStrike">
                <a:solidFill>
                  <a:srgbClr val="614020"/>
                </a:solidFill>
                <a:latin typeface="Book Antiqua"/>
              </a:rPr>
              <a:t>- Miguel Luis Amunátegui publica “</a:t>
            </a:r>
            <a:r>
              <a:rPr b="1" i="1" lang="es-CL" sz="1800" spc="-1" strike="noStrike">
                <a:solidFill>
                  <a:srgbClr val="614020"/>
                </a:solidFill>
                <a:latin typeface="Book Antiqua"/>
              </a:rPr>
              <a:t>La Crónica de 1810”</a:t>
            </a:r>
            <a:r>
              <a:rPr b="1" lang="es-CL" sz="1800" spc="-1" strike="noStrike">
                <a:solidFill>
                  <a:srgbClr val="614020"/>
                </a:solidFill>
                <a:latin typeface="Book Antiqua"/>
              </a:rPr>
              <a:t>, locual refleja el interés de varios autores por escribir la historia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l palacio del Congreso Nacional, en los terrenos de la antigua iglesia de la Compañía de Jesú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6320" y="1676520"/>
            <a:ext cx="8077320" cy="4419360"/>
          </a:xfrm>
          <a:prstGeom prst="rect">
            <a:avLst/>
          </a:prstGeom>
          <a:noFill/>
          <a:ln w="0">
            <a:noFill/>
          </a:ln>
        </p:spPr>
        <p:txBody>
          <a:bodyPr lIns="92160" rIns="92160" tIns="46080" bIns="46080" anchor="t">
            <a:normAutofit/>
          </a:bodyPr>
          <a:p>
            <a:pPr marL="6094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uede sintetizarse en los siguientes puntos la obra de la Junta Gubernativa:</a:t>
            </a:r>
            <a:endParaRPr b="0" lang="en-US" sz="1600" spc="-1" strike="noStrike">
              <a:solidFill>
                <a:srgbClr val="000000"/>
              </a:solidFill>
              <a:latin typeface="Arial Narrow"/>
            </a:endParaRPr>
          </a:p>
          <a:p>
            <a:pPr marL="6094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Organizar cuerpos armados a lo largo de todo el país para asegurar la defensa del reino.</a:t>
            </a:r>
            <a:endParaRPr b="0" lang="en-US" sz="1600" spc="-1" strike="noStrike">
              <a:solidFill>
                <a:srgbClr val="000000"/>
              </a:solidFill>
              <a:latin typeface="Arial Narrow"/>
            </a:endParaRPr>
          </a:p>
          <a:p>
            <a:pPr marL="6094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cretar la libertad de comercio con las naciones aliadas de España.</a:t>
            </a:r>
            <a:endParaRPr b="0" lang="en-US" sz="1600" spc="-1" strike="noStrike">
              <a:solidFill>
                <a:srgbClr val="000000"/>
              </a:solidFill>
              <a:latin typeface="Arial Narrow"/>
            </a:endParaRPr>
          </a:p>
          <a:p>
            <a:pPr marL="6094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stablecer relaciones con ls Junta de Gobierno de Buenos Aires, de la que recibió como agente a don Antonio Alvarez Jonte.</a:t>
            </a:r>
            <a:endParaRPr b="0" lang="en-US" sz="1600" spc="-1" strike="noStrike">
              <a:solidFill>
                <a:srgbClr val="000000"/>
              </a:solidFill>
              <a:latin typeface="Arial Narrow"/>
            </a:endParaRPr>
          </a:p>
          <a:p>
            <a:pPr marL="6094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nvocar a un Congreso Nacional, encargado de dar al país un gobierno definitivo.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Reforma de la Constitución.</a:t>
            </a:r>
            <a:endParaRPr b="0" lang="en-US" sz="3200" spc="-1" strike="noStrike">
              <a:solidFill>
                <a:srgbClr val="000000"/>
              </a:solidFill>
              <a:latin typeface="Arial"/>
            </a:endParaRPr>
          </a:p>
        </p:txBody>
      </p:sp>
      <p:sp>
        <p:nvSpPr>
          <p:cNvPr id="255"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71, el diputado radical don Manuel Antonio Matta, hizo en la Cámara un fuerte ataque al espíritu de la Constitución de 1833, llamada en su concepto a perpetuar la idiosincrasia colonial por medio de una verdadera monarquía electiva, Propuso un proyecto completo de Constitución Política. Al año siguiente el Presidente Errázuriz, en su mensaje inaugural de las sesiones ordinarias del Congreso, instó a los parlamentarios a consagrar su atención a la reforma constitucional, deteniéndose de una manera especial en la composición del Senado y del Consejo de Estado, la limitación de las facultades extraordinarias y el desarrollo de las garantías individuales. Durante los años 1873 y 1874, se despacharon las siguientes reformas constitucional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turalización y ciudadanía</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os extranjeros que deseen naturalizarse pueden hacerlo después de un año de residencia en la República; con lo que se redujo el número de años que exigía la Constitución. Se suprimió, además, como causa suspensiva de la ciudadanía, la calidad de deudor al fisco constituido en mora; y como causa de extinción, la residencia de más de 10 años en el extranjero sin permiso del Presidente de la Repúblic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900000" y="1628640"/>
            <a:ext cx="8244000" cy="4467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Garantías Individuales</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ñadieron a las ya contempladas en la Constitución, el derecho de reunión sin permiso previo y sin armas; el derecho de asociación sin permiso previo y la libertad de enseñanz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mposición del Congreso y funcionamient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fijó el número de Diputados en uno por cada 20.000 habitantes y fracción que no bajara de 12.000. Se declaró incompatible el cargo de diputado con el de todo “empleo retribuido de nombramiento exclusivo del presidente de la República”. Se reformó el sistema de elección del Senado, estableciéndose que éste se “compone de miembros elegidos en votación directa por provincias, correspondiente a cada una elegir un senador por cada tres diputados y por una fracción de dos diputados. Se estableció que el Senado sesionaría con la tercera parte de sus miembro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misión Conservadora</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gregan 7 diputados a su seno, antes compuesto por sólo de 7 senadores. Se añade a sus atribuciones la de “prestar protección a las garantías individuales” y de “pedir al Presidente de la República que convoque extraordinariamente al Congreso cuando, a su juicio, lo exigieren circunstancias extraordinarias y excepcion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Facultades extraordinarias y estado de siti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limitan a las atribuciones del Presidente de la República en estos casos. Tratándose de las facultades extraordinarias, se dispone que el Congreso podrá dictar leyes excepcionales y de duración transitoria que no podrá exceder de un año, para restringir la libertad personal y la libertad de imprenta y suspender o restringir el ejercicio de la libertad de reunión, cuando lo reclamare la necesidad imperiosa de la defensa del Estado, de la conservación del régimen constitucional o de la paz interior. Si dichas leyes señalaren penas, su aplicación se hará siempre por los tribunales establecidos. En cuanto a las facultades que puede ejercer el Presidente de la República cuando declare el estado de sitio en uno o varios puntos de la República, se establece que sólo puede, arrestar a las personas en sus casas o en lugares que no sean cárceles y trasladar a las personas de un departamento a otro dentro del continente y en un área comprendida entre el puerto de Caldera al norte y la provincia de Llanquihue al sur.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cusación a los Ministros de Estad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reglamenta con más detalles la iniciativa de esta acusación en la Cámara de Diputados, disponiéndose que si ésta admite la proposición de acusación, el Ministro queda suspendido de sus funciones. Pasada la acusación al Senado éste juzgará al Ministro como jurado “y se limitará a declarar si es o no culpable del delito de abuso de poder que se le imputa”. Producida la declaración de culpabilidad por los dos tercios de los senadores asistentes, el Ministro queda destituido de su cargo y pasa al tribunal ordinario competente para ser juzgado con arreglo a las ley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ste último trámite constituye una innovación capital, pues el texto constitucional primitivo colocaba en manos del Senado el dictar la pena y no reconocía para su sentencia ulterior recurs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mposición del Consejo de Estad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gregan 3 consejeros elegidos por el Senado y 3 por la Cámara de Diputados y se le quita a los Ministros de Estado el carácter de miembros del Consejo, admitiéndoseles sólo en él con derecho a voz.</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n el conjunto de reformas emprendidas se procuró reducir el poder presidencial, acrecentando, en cambio, la intervención del Congreso en los asuntos de Gobier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NIBAL PINTO GARMENDIA  1876-1881</a:t>
            </a:r>
            <a:endParaRPr b="0" lang="en-US" sz="3200" spc="-1" strike="noStrike">
              <a:solidFill>
                <a:srgbClr val="301800"/>
              </a:solidFill>
              <a:latin typeface="Arial Narrow"/>
            </a:endParaRPr>
          </a:p>
        </p:txBody>
      </p:sp>
      <p:sp>
        <p:nvSpPr>
          <p:cNvPr id="260" name="PlaceHolder 2"/>
          <p:cNvSpPr>
            <a:spLocks noGrp="1"/>
          </p:cNvSpPr>
          <p:nvPr>
            <p:ph type="subTitle"/>
          </p:nvPr>
        </p:nvSpPr>
        <p:spPr>
          <a:xfrm>
            <a:off x="1042560" y="2060640"/>
            <a:ext cx="7921800" cy="439272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6</a:t>
            </a:r>
            <a:r>
              <a:rPr b="1" lang="es-CL" sz="1800" spc="-1" strike="noStrike">
                <a:solidFill>
                  <a:srgbClr val="614020"/>
                </a:solidFill>
                <a:latin typeface="Book Antiqua"/>
              </a:rPr>
              <a:t>	</a:t>
            </a:r>
            <a:r>
              <a:rPr b="1" lang="es-CL" sz="1800" spc="-1" strike="noStrike">
                <a:solidFill>
                  <a:srgbClr val="614020"/>
                </a:solidFill>
                <a:latin typeface="Book Antiqua"/>
              </a:rPr>
              <a:t>- Es elegido Presidente de la República don Aníbal Pinto, luego de que Benjamín Vicuña Mackenna retira su candid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7</a:t>
            </a:r>
            <a:r>
              <a:rPr b="1" lang="es-CL" sz="1800" spc="-1" strike="noStrike">
                <a:solidFill>
                  <a:srgbClr val="000066"/>
                </a:solidFill>
                <a:latin typeface="Book Antiqua"/>
              </a:rPr>
              <a:t>	</a:t>
            </a:r>
            <a:r>
              <a:rPr b="1" lang="es-CL" sz="1800" spc="-1" strike="noStrike">
                <a:solidFill>
                  <a:srgbClr val="614020"/>
                </a:solidFill>
                <a:latin typeface="Book Antiqua"/>
              </a:rPr>
              <a:t>- Miguel Luis Amunátegui dicta un decreto sobre educación femenina, en el que se establece que las mujeres pueden optar a títulos profesionales, previa rendición de exámenes en igualdad de condiciones respecto de los hombr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8</a:t>
            </a:r>
            <a:r>
              <a:rPr b="1" lang="es-CL" sz="1800" spc="-1" strike="noStrike">
                <a:solidFill>
                  <a:srgbClr val="614020"/>
                </a:solidFill>
                <a:latin typeface="Book Antiqua"/>
              </a:rPr>
              <a:t>	</a:t>
            </a:r>
            <a:r>
              <a:rPr b="1" lang="es-CL" sz="1800" spc="-1" strike="noStrike">
                <a:solidFill>
                  <a:srgbClr val="614020"/>
                </a:solidFill>
                <a:latin typeface="Book Antiqua"/>
              </a:rPr>
              <a:t>- Se dicta la ley que establece la inconvertibilidad de los billetes de banco por un año, con el fin de evitar la quiebra de las industrias bancari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9</a:t>
            </a:r>
            <a:r>
              <a:rPr b="1" lang="es-CL" sz="1800" spc="-1" strike="noStrike">
                <a:solidFill>
                  <a:srgbClr val="614020"/>
                </a:solidFill>
                <a:latin typeface="Book Antiqua"/>
              </a:rPr>
              <a:t>	</a:t>
            </a:r>
            <a:r>
              <a:rPr b="1" lang="es-CL" sz="1800" spc="-1" strike="noStrike">
                <a:solidFill>
                  <a:srgbClr val="614020"/>
                </a:solidFill>
                <a:latin typeface="Book Antiqua"/>
              </a:rPr>
              <a:t>- Se decreta ley impulsada por Amunátegui, se entrega al consejo universitario la superintendencia de la enseñanza estat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eclara la guerra con Bolivia, debido al alza de impuestos que este país impone a las compañías salitreras chile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hile ocupa la ciudad de Antofaga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61" name="" descr=""/>
          <p:cNvPicPr/>
          <p:nvPr/>
        </p:nvPicPr>
        <p:blipFill>
          <a:blip r:embed="rId1"/>
          <a:stretch/>
        </p:blipFill>
        <p:spPr>
          <a:xfrm>
            <a:off x="871560" y="0"/>
            <a:ext cx="1440000" cy="1989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042560" y="1828440"/>
            <a:ext cx="7921800" cy="4343400"/>
          </a:xfrm>
          <a:prstGeom prst="rect">
            <a:avLst/>
          </a:prstGeom>
          <a:noFill/>
          <a:ln w="0">
            <a:noFill/>
          </a:ln>
        </p:spPr>
        <p:txBody>
          <a:bodyPr lIns="92160" rIns="92160" tIns="46080" bIns="46080" anchor="t">
            <a:normAutofit fontScale="96000"/>
          </a:bodyPr>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prueba la propuesta de que la enseñanza secundaria y</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universitaria sean financiadas por el Estado</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0</a:t>
            </a:r>
            <a:r>
              <a:rPr b="1" lang="es-CL" sz="1800" spc="-1" strike="noStrike">
                <a:solidFill>
                  <a:srgbClr val="614020"/>
                </a:solidFill>
                <a:latin typeface="Book Antiqua"/>
              </a:rPr>
              <a:t>	</a:t>
            </a:r>
            <a:r>
              <a:rPr b="1" lang="es-CL" sz="1800" spc="-1" strike="noStrike">
                <a:solidFill>
                  <a:srgbClr val="614020"/>
                </a:solidFill>
                <a:latin typeface="Book Antiqua"/>
              </a:rPr>
              <a:t>- Se produce una rebelión mapuche cuyo objeto es reconquistar los territorios hasta el Biobío</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salitre comienza a ser explotado por capitales ingleses</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xisten en el país 39 mutuales. Estas constituyen  uno de los tipos de agrupaciones de trabajadores que existen a la fecha en el país. Su objetivo es cooperar al mejoramiento material e intelectual de los obreros y sus familias, sobre la base de la ayuda mutua. Se ocupan desde la creación de bibliotecas y la recreación, la vivienda y el ahorro de sus afiliados</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1</a:t>
            </a:r>
            <a:r>
              <a:rPr b="1" lang="es-CL" sz="1800" spc="-1" strike="noStrike">
                <a:solidFill>
                  <a:srgbClr val="614020"/>
                </a:solidFill>
                <a:latin typeface="Book Antiqua"/>
              </a:rPr>
              <a:t>	</a:t>
            </a:r>
            <a:r>
              <a:rPr b="1" lang="es-CL" sz="1800" spc="-1" strike="noStrike">
                <a:solidFill>
                  <a:srgbClr val="614020"/>
                </a:solidFill>
                <a:latin typeface="Book Antiqua"/>
              </a:rPr>
              <a:t>-- Daniel Barros Grez estrena la obra de teatro “</a:t>
            </a:r>
            <a:r>
              <a:rPr b="1" i="1" lang="es-CL" sz="1800" spc="-1" strike="noStrike">
                <a:solidFill>
                  <a:srgbClr val="614020"/>
                </a:solidFill>
                <a:latin typeface="Book Antiqua"/>
              </a:rPr>
              <a:t>Como en Santiago”</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ducen las batallas de Chorrillos y Miraflores, que otorgan el triunfo a Chile sobre Perú</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DOMINGO SANTA MARIA GONZALEZ  1881-1886</a:t>
            </a:r>
            <a:endParaRPr b="0" lang="en-US" sz="3200" spc="-1" strike="noStrike">
              <a:solidFill>
                <a:srgbClr val="301800"/>
              </a:solidFill>
              <a:latin typeface="Arial Narrow"/>
            </a:endParaRPr>
          </a:p>
        </p:txBody>
      </p:sp>
      <p:sp>
        <p:nvSpPr>
          <p:cNvPr id="264"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1</a:t>
            </a:r>
            <a:r>
              <a:rPr b="1" lang="es-CL" sz="1800" spc="-1" strike="noStrike">
                <a:solidFill>
                  <a:srgbClr val="000066"/>
                </a:solidFill>
                <a:latin typeface="Book Antiqua"/>
              </a:rPr>
              <a:t>	</a:t>
            </a:r>
            <a:r>
              <a:rPr b="1" lang="es-CL" sz="1800" spc="-1" strike="noStrike">
                <a:solidFill>
                  <a:srgbClr val="614020"/>
                </a:solidFill>
                <a:latin typeface="Book Antiqua"/>
              </a:rPr>
              <a:t>- Domingo Santa María es elegido Presidente de la República sin contend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hile firma tratado de límites con Argentin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2</a:t>
            </a:r>
            <a:r>
              <a:rPr b="1" lang="es-CL" sz="1800" spc="-1" strike="noStrike">
                <a:solidFill>
                  <a:srgbClr val="000066"/>
                </a:solidFill>
                <a:latin typeface="Book Antiqua"/>
              </a:rPr>
              <a:t>	</a:t>
            </a:r>
            <a:r>
              <a:rPr b="1" lang="es-CL" sz="1800" spc="-1" strike="noStrike">
                <a:solidFill>
                  <a:srgbClr val="614020"/>
                </a:solidFill>
                <a:latin typeface="Book Antiqua"/>
              </a:rPr>
              <a:t>- Miguel Luis Amunátegui publica “</a:t>
            </a:r>
            <a:r>
              <a:rPr b="1" i="1" lang="es-CL" sz="1800" spc="-1" strike="noStrike">
                <a:solidFill>
                  <a:srgbClr val="614020"/>
                </a:solidFill>
                <a:latin typeface="Book Antiqua"/>
              </a:rPr>
              <a:t>Vida de don Andrés Be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in al proceso de “pacificación de la Araucanía”, luego de derrotar la insurrección mapuche que se había iniciado el año 1880</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3</a:t>
            </a:r>
            <a:r>
              <a:rPr b="1" lang="es-CL" sz="1800" spc="-1" strike="noStrike">
                <a:solidFill>
                  <a:srgbClr val="614020"/>
                </a:solidFill>
                <a:latin typeface="Book Antiqua"/>
              </a:rPr>
              <a:t>	</a:t>
            </a:r>
            <a:r>
              <a:rPr b="1" lang="es-CL" sz="1800" spc="-1" strike="noStrike">
                <a:solidFill>
                  <a:srgbClr val="614020"/>
                </a:solidFill>
                <a:latin typeface="Book Antiqua"/>
              </a:rPr>
              <a:t>- Se firma el tratado de Ancón, que consagra la paz definitiva con Perú</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Sociedad de Fomento Fabril (Sofofa), integrada por los principales industriales del paí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decreta la ley de cementerios laicos, la cual dispone que en los cementerios administrados por el Estado no puede negarse la sepultura  a ninguna person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4</a:t>
            </a:r>
            <a:r>
              <a:rPr b="1" lang="es-CL" sz="1800" spc="-1" strike="noStrike">
                <a:solidFill>
                  <a:srgbClr val="614020"/>
                </a:solidFill>
                <a:latin typeface="Book Antiqua"/>
              </a:rPr>
              <a:t>	</a:t>
            </a:r>
            <a:r>
              <a:rPr b="1" lang="es-CL" sz="1800" spc="-1" strike="noStrike">
                <a:solidFill>
                  <a:srgbClr val="614020"/>
                </a:solidFill>
                <a:latin typeface="Book Antiqua"/>
              </a:rPr>
              <a:t>- Se promulga Ley de Matrimonio Civil y de creación del Registro Civil, con funcionarios del Estado que se encargan de registrar los</a:t>
            </a:r>
            <a:endParaRPr b="0" lang="en-US" sz="1800" spc="-1" strike="noStrike">
              <a:solidFill>
                <a:srgbClr val="000000"/>
              </a:solidFill>
              <a:latin typeface="Arial Narrow"/>
            </a:endParaRPr>
          </a:p>
        </p:txBody>
      </p:sp>
      <p:pic>
        <p:nvPicPr>
          <p:cNvPr id="265" name="" descr=""/>
          <p:cNvPicPr/>
          <p:nvPr/>
        </p:nvPicPr>
        <p:blipFill>
          <a:blip r:embed="rId1"/>
          <a:stretch/>
        </p:blipFill>
        <p:spPr>
          <a:xfrm>
            <a:off x="611280" y="0"/>
            <a:ext cx="2023920" cy="20239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nacimientos, matrimonios y defunciones, independientemente de los registros parroquia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Se promulga Ley Orgánica de Ferrocarri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Diego Barros Arana inicia la publicación de su “</a:t>
            </a:r>
            <a:r>
              <a:rPr b="1" i="1" lang="es-CL" sz="1800" spc="-1" strike="noStrike">
                <a:solidFill>
                  <a:srgbClr val="614020"/>
                </a:solidFill>
                <a:latin typeface="Book Antiqua"/>
              </a:rPr>
              <a:t>Historia General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Sociedad Nacional de Miner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5</a:t>
            </a:r>
            <a:r>
              <a:rPr b="1" lang="es-CL" sz="1800" spc="-1" strike="noStrike">
                <a:solidFill>
                  <a:srgbClr val="614020"/>
                </a:solidFill>
                <a:latin typeface="Book Antiqua"/>
              </a:rPr>
              <a:t>	</a:t>
            </a:r>
            <a:r>
              <a:rPr b="1" lang="es-CL" sz="1800" spc="-1" strike="noStrike">
                <a:solidFill>
                  <a:srgbClr val="614020"/>
                </a:solidFill>
                <a:latin typeface="Book Antiqua"/>
              </a:rPr>
              <a:t>- Mr. North es llamado “el rey del salit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Nacional: 2.5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l gobierno establece contrato con Emilio Köerner, para la instrucción y organización del ejército según el modelo prusiano; para este efecto viene a Chile una gran cantidad de oficiales alema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construyen grandes mansiones con la riqueza generada por el salitre, la explotación minera en general y el aumento del comercio. Llaman la atención por el lujo y la ostentación de sus construcciones</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971640" y="1773000"/>
            <a:ext cx="7921440" cy="43988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6</a:t>
            </a:r>
            <a:r>
              <a:rPr b="1" lang="es-CL" sz="1800" spc="-1" strike="noStrike">
                <a:solidFill>
                  <a:srgbClr val="614020"/>
                </a:solidFill>
                <a:latin typeface="Book Antiqua"/>
              </a:rPr>
              <a:t>	</a:t>
            </a:r>
            <a:r>
              <a:rPr b="1" lang="es-CL" sz="1800" spc="-1" strike="noStrike">
                <a:solidFill>
                  <a:srgbClr val="614020"/>
                </a:solidFill>
                <a:latin typeface="Book Antiqua"/>
              </a:rPr>
              <a:t>- Se funda la Academia Milita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a Sociedad de Fomento Fabril abre una escuela nocturna de dibuj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Reformas Constitucionales.</a:t>
            </a:r>
            <a:endParaRPr b="0" lang="en-US" sz="3200" spc="-1" strike="noStrike">
              <a:solidFill>
                <a:srgbClr val="000000"/>
              </a:solidFill>
              <a:latin typeface="Arial"/>
            </a:endParaRPr>
          </a:p>
        </p:txBody>
      </p:sp>
      <p:sp>
        <p:nvSpPr>
          <p:cNvPr id="269"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rescindiendo del intento de separación parcial de la Iglesia y del Estado, que no llegó a hacerse efectivo, durante Santa María se acordaron las siguientes modificaciones al texto de la Constitución que alcanzaron la ratificación definitiv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2, la referente a los trámites a que debía ceñirse un proyecto constitucional, disponiéndose que él podía presentarse no sólo al Senado, como establecía la Carta de 1833, sino también a la Cámara; que aprobado por el Congreso el proyecto, el Presidente no podía esgrimir contra él el derecho de voto, sino sólo sugerir modificaciones o correcciones a las reformas acordadas; y que el nuevo Congreso debía pronunciarse sobre la ratificación de las reformas en los términos en que habían sido propuestas, sin hacer en ellas alteración algun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4, la reforma que introdujo el sufragio universal, disponiendo que son ciudadanos con derecho a sufragio los chilenos de 25 años de edad que sepan leer y escribir, y los que tengan estos requisitos y hayan cumplido 21 años en caso de estar casados. La exigencia de la renta quedaba suprimid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El primer Congreso Nacional</a:t>
            </a:r>
            <a:endParaRPr b="0" lang="en-US" sz="3200" spc="-1" strike="noStrike">
              <a:solidFill>
                <a:srgbClr val="000000"/>
              </a:solidFill>
              <a:latin typeface="Arial"/>
            </a:endParaRPr>
          </a:p>
        </p:txBody>
      </p:sp>
      <p:sp>
        <p:nvSpPr>
          <p:cNvPr id="161"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os absolutistas autorizados por la Audiencia intentan detener la apertura del Congreso y derrocar la Junta, con un golpe militar que dirije el 1º de Abril de 1811 el Teniente Coronel don Tomás de Figueroa. El intento fracasa siendo fusilado el cabecilla y disuelta la Audiencia. La revolcuión acentúa su curso. El 4 de Julio se inaugura el Congreso y cesa la Junta en sus funciones.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redomina en el Congreso el espíritu moderado de reformas, y los pocos diputados que desean cambios más audaces, optan por retirarse de él para organizar fuera la lucha. La familia de los Larraín, llamada de los Ochocientos, prepara el golpe, que se da encabezado por don José Miguel Carrera, recién llegado de España y penetrado de espíritu separatista. El 4 de Septiembre los conjurados exigen la expulsión y destierro de varios diputados moderados y el nombramiento de una Junta de Gobierno favorable a sus objetivos. El Congreso entra en un plan de importantes reformas: creación de la provincia de Coquimbo, creación de la Corte Suprema de Justicia; supresión de los derechos parroquiales y su substitución por un sueldo para la mantención de los curas párrocos; abolición parcial de la esclavitud; envío de don Francisco Antonio Pinto como agente diplotático ante la Junta de Buenos Aires; dictación de un Reglamento Constitucional provisorio y nombramiento de una comisión para redactar un proyecto de Constitución Política Definitiva.</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Un segundo golpe militar de Don José Miguel Carrera, que rompe con los Larraín, trae la instalación de una Junta encabezada por él. Dada la resistencia que el congreso opone a sus deseos, Carrera lo clausura el 2 de Diciembre de 1811.</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987640" y="304560"/>
            <a:ext cx="6004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MANUEL BALMACEDA FERNANDEZ 1886 - 1891</a:t>
            </a:r>
            <a:endParaRPr b="0" lang="en-US" sz="3200" spc="-1" strike="noStrike">
              <a:solidFill>
                <a:srgbClr val="301800"/>
              </a:solidFill>
              <a:latin typeface="Arial Narrow"/>
            </a:endParaRPr>
          </a:p>
        </p:txBody>
      </p:sp>
      <p:sp>
        <p:nvSpPr>
          <p:cNvPr id="271" name="PlaceHolder 2"/>
          <p:cNvSpPr>
            <a:spLocks noGrp="1"/>
          </p:cNvSpPr>
          <p:nvPr>
            <p:ph type="subTitle"/>
          </p:nvPr>
        </p:nvSpPr>
        <p:spPr>
          <a:xfrm>
            <a:off x="1042920" y="2060280"/>
            <a:ext cx="7850160" cy="453708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6</a:t>
            </a:r>
            <a:r>
              <a:rPr b="1" lang="es-CL" sz="1800" spc="-1" strike="noStrike">
                <a:solidFill>
                  <a:srgbClr val="614020"/>
                </a:solidFill>
                <a:latin typeface="Book Antiqua"/>
              </a:rPr>
              <a:t>	</a:t>
            </a:r>
            <a:r>
              <a:rPr b="1" lang="es-CL" sz="1800" spc="-1" strike="noStrike">
                <a:solidFill>
                  <a:srgbClr val="614020"/>
                </a:solidFill>
                <a:latin typeface="Book Antiqua"/>
              </a:rPr>
              <a:t>- En septiembre es elegido Presidente de la República don José Manuel Balmace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n obras de canalización del río Mapoch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7</a:t>
            </a:r>
            <a:r>
              <a:rPr b="1" lang="es-CL" sz="1800" spc="-1" strike="noStrike">
                <a:solidFill>
                  <a:srgbClr val="614020"/>
                </a:solidFill>
                <a:latin typeface="Book Antiqua"/>
              </a:rPr>
              <a:t>	</a:t>
            </a:r>
            <a:r>
              <a:rPr b="1" lang="es-CL" sz="1800" spc="-1" strike="noStrike">
                <a:solidFill>
                  <a:srgbClr val="614020"/>
                </a:solidFill>
                <a:latin typeface="Book Antiqua"/>
              </a:rPr>
              <a:t>- Nace el partido Democrático fundado por Malaquías Conch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n las escuelas de Minería de Santiago y La Sere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utoriza la construcción del ferrocarril transandino entre Los Andes y Mendoz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l edificio del Congreso Nacional; durante el baile se gozo de un bello espectáculo al iluminarse los pasillos y salones con gran cantidad de bombillas eléctric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8</a:t>
            </a:r>
            <a:r>
              <a:rPr b="1" lang="es-CL" sz="1800" spc="-1" strike="noStrike">
                <a:solidFill>
                  <a:srgbClr val="614020"/>
                </a:solidFill>
                <a:latin typeface="Book Antiqua"/>
              </a:rPr>
              <a:t>	</a:t>
            </a:r>
            <a:r>
              <a:rPr b="1" lang="es-CL" sz="1800" spc="-1" strike="noStrike">
                <a:solidFill>
                  <a:srgbClr val="614020"/>
                </a:solidFill>
                <a:latin typeface="Book Antiqua"/>
              </a:rPr>
              <a:t>- Se inaugura la Universidad Católica de Chile, obra de Joaquín Larraín Gandarillas y del arzobispo Mariano Casanov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lanza al mercado la cámara fotográfica Kodak</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9</a:t>
            </a:r>
            <a:r>
              <a:rPr b="1" lang="es-CL" sz="1800" spc="-1" strike="noStrike">
                <a:solidFill>
                  <a:srgbClr val="614020"/>
                </a:solidFill>
                <a:latin typeface="Book Antiqua"/>
              </a:rPr>
              <a:t>	</a:t>
            </a:r>
            <a:r>
              <a:rPr b="1" lang="es-CL" sz="1800" spc="-1" strike="noStrike">
                <a:solidFill>
                  <a:srgbClr val="614020"/>
                </a:solidFill>
                <a:latin typeface="Book Antiqua"/>
              </a:rPr>
              <a:t>- Se funda el Instituto Pedagógico, destinado a formar profesores para la enseñanza secundaria. La mayoría de los maestros eran alemanes</a:t>
            </a:r>
            <a:endParaRPr b="0" lang="en-US" sz="1800" spc="-1" strike="noStrike">
              <a:solidFill>
                <a:srgbClr val="000000"/>
              </a:solidFill>
              <a:latin typeface="Arial Narrow"/>
            </a:endParaRPr>
          </a:p>
        </p:txBody>
      </p:sp>
      <p:pic>
        <p:nvPicPr>
          <p:cNvPr id="272" name="" descr=""/>
          <p:cNvPicPr/>
          <p:nvPr/>
        </p:nvPicPr>
        <p:blipFill>
          <a:blip r:embed="rId1"/>
          <a:stretch/>
        </p:blipFill>
        <p:spPr>
          <a:xfrm>
            <a:off x="808200" y="0"/>
            <a:ext cx="1590480" cy="1989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Reformas Constitucionales.</a:t>
            </a:r>
            <a:endParaRPr b="0" lang="en-US" sz="3200" spc="-1" strike="noStrike">
              <a:solidFill>
                <a:srgbClr val="000000"/>
              </a:solidFill>
              <a:latin typeface="Arial"/>
            </a:endParaRPr>
          </a:p>
        </p:txBody>
      </p:sp>
      <p:sp>
        <p:nvSpPr>
          <p:cNvPr id="274" name=""/>
          <p:cNvSpPr/>
          <p:nvPr/>
        </p:nvSpPr>
        <p:spPr>
          <a:xfrm>
            <a:off x="971640" y="1628640"/>
            <a:ext cx="8172360" cy="446724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7 y 1888, se aprobaron las siguientes reforma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fija como única edad para el sufragio los 21 año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establece la inhabilidad para las funciones parlamentarias de “las personas que tienen o caucionan contratos con el Estado sobre obras públicas o sobre provisión de cualesquiera especie de artículo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dispone la incompatibilidad de los cargos de senador y diputado con el de municipal, con todo empleo público, retribuido y con toda función o comisión de la misma naturaleza, salvo el cargo de Ministr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establece la incapacidad, desde el momento de su elección y hasta 6 meses después de terminado el cargo, de ser nombrado para función, comisión o empleos públicos retribuidos. Esta disposición no rige en tiempo de guerra no se extiende a los cargos de Presidente de la República, Ministro del despacho y Agente Diplomático</a:t>
            </a:r>
            <a:r>
              <a:rPr b="0" lang="es-ES_tradnl"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9 se aprobaron en primer trámite estas otras reforma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faculta a la Comisión Conservadora para convocar al Congreso a sesiones extraordinarias cuando lo estimare conveniente o cuando la mayoría de ambas Cámaras lo pidieren por escrit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dispone que el nombramiento de los Ministros diplomáticos deberá someterse a la aprobación del Senado o en su receso al de la Comisión Conservador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suprime el veto absoluto del Presidente, que ahora sólo podrá devolver al Congreso con observaciones el proyecto aprobado por éste y si las Cámaras insisten en el, por los dos tercios de sus miembros presentes, adquiere fuerza de ley y el Presidente debe promulgar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s reformas iniciales, particularmente las de 1890, tenían por principal propósito reducir el poder del Presidente.  Ellas entraron a regir sólo desde el gobierno siguiente, en que el nuevo Congreso les prestó la ratificación necesaria, razón por la cual no pudieron canalizar de manera jurídica el conflicto producido en 1891 entre el Congreso y Balmaceda, que derivó en una sangrienta revolu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RGE MONTT ALVAREZ  1891 - 1896</a:t>
            </a:r>
            <a:endParaRPr b="0" lang="en-US" sz="3200" spc="-1" strike="noStrike">
              <a:solidFill>
                <a:srgbClr val="301800"/>
              </a:solidFill>
              <a:latin typeface="Arial Narrow"/>
            </a:endParaRPr>
          </a:p>
        </p:txBody>
      </p:sp>
      <p:sp>
        <p:nvSpPr>
          <p:cNvPr id="277"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1</a:t>
            </a:r>
            <a:r>
              <a:rPr b="1" lang="es-CL" sz="1800" spc="-1" strike="noStrike">
                <a:solidFill>
                  <a:srgbClr val="614020"/>
                </a:solidFill>
                <a:latin typeface="Book Antiqua"/>
              </a:rPr>
              <a:t>	</a:t>
            </a:r>
            <a:r>
              <a:rPr b="1" lang="es-CL" sz="1800" spc="-1" strike="noStrike">
                <a:solidFill>
                  <a:srgbClr val="614020"/>
                </a:solidFill>
                <a:latin typeface="Book Antiqua"/>
              </a:rPr>
              <a:t>- Jorge Montt es elegido Presidente de la República luego del gobierno temporal de una jun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3</a:t>
            </a:r>
            <a:r>
              <a:rPr b="1" lang="es-CL" sz="1800" spc="-1" strike="noStrike">
                <a:solidFill>
                  <a:srgbClr val="614020"/>
                </a:solidFill>
                <a:latin typeface="Book Antiqua"/>
              </a:rPr>
              <a:t>	</a:t>
            </a:r>
            <a:r>
              <a:rPr b="1" lang="es-CL" sz="1800" spc="-1" strike="noStrike">
                <a:solidFill>
                  <a:srgbClr val="614020"/>
                </a:solidFill>
                <a:latin typeface="Book Antiqua"/>
              </a:rPr>
              <a:t>- Nace el Partido Libera-Democrático (balmaced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n cinco puentes sobre el río Mapoch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4</a:t>
            </a:r>
            <a:r>
              <a:rPr b="1" lang="es-CL" sz="1800" spc="-1" strike="noStrike">
                <a:solidFill>
                  <a:srgbClr val="000066"/>
                </a:solidFill>
                <a:latin typeface="Book Antiqua"/>
              </a:rPr>
              <a:t>	</a:t>
            </a:r>
            <a:r>
              <a:rPr b="1" lang="es-CL" sz="1800" spc="-1" strike="noStrike">
                <a:solidFill>
                  <a:srgbClr val="614020"/>
                </a:solidFill>
                <a:latin typeface="Book Antiqua"/>
              </a:rPr>
              <a:t>- Luis Emilio Recabarren, obrero del gremio de los tipógrafos de Valparaíso, ingresa al Partido Demócrata a los 18 años. Recabarren fue el fundador de la prensa obrera y puede considerársele también fundador del movimiento sindical chile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5</a:t>
            </a:r>
            <a:r>
              <a:rPr b="1" lang="es-CL" sz="1800" spc="-1" strike="noStrike">
                <a:solidFill>
                  <a:srgbClr val="000066"/>
                </a:solidFill>
                <a:latin typeface="Book Antiqua"/>
              </a:rPr>
              <a:t>	</a:t>
            </a:r>
            <a:r>
              <a:rPr b="1" lang="es-CL" sz="1800" spc="-1" strike="noStrike">
                <a:solidFill>
                  <a:srgbClr val="614020"/>
                </a:solidFill>
                <a:latin typeface="Book Antiqua"/>
              </a:rPr>
              <a:t>- Censo Nacional: 2.7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xposición de agricul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ey de conversión metá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6</a:t>
            </a:r>
            <a:r>
              <a:rPr b="1" lang="es-CL" sz="1800" spc="-1" strike="noStrike">
                <a:solidFill>
                  <a:srgbClr val="614020"/>
                </a:solidFill>
                <a:latin typeface="Book Antiqua"/>
              </a:rPr>
              <a:t>	</a:t>
            </a:r>
            <a:r>
              <a:rPr b="1" lang="es-CL" sz="1800" spc="-1" strike="noStrike">
                <a:solidFill>
                  <a:srgbClr val="614020"/>
                </a:solidFill>
                <a:latin typeface="Book Antiqua"/>
              </a:rPr>
              <a:t>- Se crea la primera planta hidroeléctrica de América, en Chivilingo, cercano a Lota. Esta transmite corriente de 10.000 volts. por una línea aérea de 8 kilómet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78" name="" descr=""/>
          <p:cNvPicPr/>
          <p:nvPr/>
        </p:nvPicPr>
        <p:blipFill>
          <a:blip r:embed="rId1"/>
          <a:stretch/>
        </p:blipFill>
        <p:spPr>
          <a:xfrm>
            <a:off x="750960" y="0"/>
            <a:ext cx="1368360" cy="1989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1042920" y="1828440"/>
            <a:ext cx="785016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 interior  de las minas de Lota, comienza a transportarse el carbón a través de carros eléctric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yecta en Santiago la primera película  pública del cinematógrafo Lumièr, en el teatro de la Unión Central</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en Valparaíso, importante centro económico y núcleo de la población inglesa, el primer club de fútbol chileno, denominado </a:t>
            </a:r>
            <a:r>
              <a:rPr b="1" i="1" lang="es-CL" sz="1800" spc="-1" strike="noStrike">
                <a:solidFill>
                  <a:srgbClr val="614020"/>
                </a:solidFill>
                <a:latin typeface="Book Antiqua"/>
              </a:rPr>
              <a:t>Valparaíso F.C</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0</a:t>
            </a:r>
            <a:r>
              <a:rPr b="1" lang="es-CL" sz="1800" spc="-1" strike="noStrike">
                <a:solidFill>
                  <a:srgbClr val="614020"/>
                </a:solidFill>
                <a:latin typeface="Book Antiqua"/>
              </a:rPr>
              <a:t>	</a:t>
            </a:r>
            <a:r>
              <a:rPr b="1" lang="es-CL" sz="1800" spc="-1" strike="noStrike">
                <a:solidFill>
                  <a:srgbClr val="614020"/>
                </a:solidFill>
                <a:latin typeface="Book Antiqua"/>
              </a:rPr>
              <a:t>- Se inaugura el Viaducto del Malle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Huelga en la zona salitrera; participan alrededor de 10.000 obreros en demanda del pago en dinero en lugar de fichas, y libertad de comercio (poner fin a las pulperí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1</a:t>
            </a:r>
            <a:r>
              <a:rPr b="1" lang="es-CL" sz="1800" spc="-1" strike="noStrike">
                <a:solidFill>
                  <a:srgbClr val="000066"/>
                </a:solidFill>
                <a:latin typeface="Book Antiqua"/>
              </a:rPr>
              <a:t>	</a:t>
            </a:r>
            <a:r>
              <a:rPr b="1" lang="es-CL" sz="1800" spc="-1" strike="noStrike">
                <a:solidFill>
                  <a:srgbClr val="614020"/>
                </a:solidFill>
                <a:latin typeface="Book Antiqua"/>
              </a:rPr>
              <a:t>- Balmaceda dispone la vigencia para 1891 del presupuesto del año anterior. El Parlamento firma un acta deponiendo al Preside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duce la sublevación armada de la oposición, seguida de una serie de batallas, como las de Concón y Placilla, que terminaron con la renuncia y posterior suicidio del Presidente Balmaced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 el período parlamentari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FEDERICO ERRAZURIZ ECHAURREN  1896 - 1901</a:t>
            </a:r>
            <a:endParaRPr b="0" lang="en-US" sz="3200" spc="-1" strike="noStrike">
              <a:solidFill>
                <a:srgbClr val="301800"/>
              </a:solidFill>
              <a:latin typeface="Arial Narrow"/>
            </a:endParaRPr>
          </a:p>
        </p:txBody>
      </p:sp>
      <p:sp>
        <p:nvSpPr>
          <p:cNvPr id="282" name="PlaceHolder 2"/>
          <p:cNvSpPr>
            <a:spLocks noGrp="1"/>
          </p:cNvSpPr>
          <p:nvPr>
            <p:ph type="subTitle"/>
          </p:nvPr>
        </p:nvSpPr>
        <p:spPr>
          <a:xfrm>
            <a:off x="1042920" y="2060640"/>
            <a:ext cx="7850160" cy="446400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6</a:t>
            </a:r>
            <a:r>
              <a:rPr b="1" lang="es-CL" sz="1800" spc="-1" strike="noStrike">
                <a:solidFill>
                  <a:srgbClr val="614020"/>
                </a:solidFill>
                <a:latin typeface="Book Antiqua"/>
              </a:rPr>
              <a:t>	</a:t>
            </a:r>
            <a:r>
              <a:rPr b="1" lang="es-CL" sz="1800" spc="-1" strike="noStrike">
                <a:solidFill>
                  <a:srgbClr val="614020"/>
                </a:solidFill>
                <a:latin typeface="Book Antiqua"/>
              </a:rPr>
              <a:t>- Elegido Presidente de la República don Federico Errázuriz, inicia una política proteccionista para favorecer la industria nacion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berto Blest Gana publica “</a:t>
            </a:r>
            <a:r>
              <a:rPr b="1" i="1" lang="es-CL" sz="1800" spc="-1" strike="noStrike">
                <a:solidFill>
                  <a:srgbClr val="614020"/>
                </a:solidFill>
                <a:latin typeface="Book Antiqua"/>
              </a:rPr>
              <a:t>Durante la Reconquist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8</a:t>
            </a:r>
            <a:r>
              <a:rPr b="1" lang="es-CL" sz="1800" spc="-1" strike="noStrike">
                <a:solidFill>
                  <a:srgbClr val="614020"/>
                </a:solidFill>
                <a:latin typeface="Book Antiqua"/>
              </a:rPr>
              <a:t>	</a:t>
            </a:r>
            <a:r>
              <a:rPr b="1" lang="es-CL" sz="1800" spc="-1" strike="noStrike">
                <a:solidFill>
                  <a:srgbClr val="614020"/>
                </a:solidFill>
                <a:latin typeface="Book Antiqua"/>
              </a:rPr>
              <a:t>- Se funda el Instituto Técnico Comercial de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 obra de alcantarillado de la ciudad de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9</a:t>
            </a:r>
            <a:r>
              <a:rPr b="1" lang="es-CL" sz="1800" spc="-1" strike="noStrike">
                <a:solidFill>
                  <a:srgbClr val="614020"/>
                </a:solidFill>
                <a:latin typeface="Book Antiqua"/>
              </a:rPr>
              <a:t>	</a:t>
            </a:r>
            <a:r>
              <a:rPr b="1" lang="es-CL" sz="1800" spc="-1" strike="noStrike">
                <a:solidFill>
                  <a:srgbClr val="614020"/>
                </a:solidFill>
                <a:latin typeface="Book Antiqua"/>
              </a:rPr>
              <a:t>- Se construye el estanque Peñuelas, que proveerá de agua a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0</a:t>
            </a:r>
            <a:r>
              <a:rPr b="1" lang="es-CL" sz="1800" spc="-1" strike="noStrike">
                <a:solidFill>
                  <a:srgbClr val="614020"/>
                </a:solidFill>
                <a:latin typeface="Book Antiqua"/>
              </a:rPr>
              <a:t>	</a:t>
            </a:r>
            <a:r>
              <a:rPr b="1" lang="es-CL" sz="1800" spc="-1" strike="noStrike">
                <a:solidFill>
                  <a:srgbClr val="614020"/>
                </a:solidFill>
                <a:latin typeface="Book Antiqua"/>
              </a:rPr>
              <a:t>- Se inaugura la Estación Centr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stablece un servicio de tranvías eléctrico en Santiago, Valparaíso, San Felipe y San Bernar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 el Congreso Social Obrero, que cuenta con 16 sociedades. En su programa incluye una campaña para bajar los precios, la promulgación de una ley de instrucción primaria obligatoria, oponerse a la inmigración que constituía una competencia laboral, la protección de la industria nacional y la dictación de leyes laborales</a:t>
            </a:r>
            <a:endParaRPr b="0" lang="en-US" sz="1800" spc="-1" strike="noStrike">
              <a:solidFill>
                <a:srgbClr val="000000"/>
              </a:solidFill>
              <a:latin typeface="Arial Narrow"/>
            </a:endParaRPr>
          </a:p>
        </p:txBody>
      </p:sp>
      <p:pic>
        <p:nvPicPr>
          <p:cNvPr id="283" name="" descr=""/>
          <p:cNvPicPr/>
          <p:nvPr/>
        </p:nvPicPr>
        <p:blipFill>
          <a:blip r:embed="rId1"/>
          <a:stretch/>
        </p:blipFill>
        <p:spPr>
          <a:xfrm>
            <a:off x="969840" y="0"/>
            <a:ext cx="1384560" cy="19890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042560" y="1828440"/>
            <a:ext cx="777708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Servicio Militar Obligatorio bajo supervisión de generales alema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1</a:t>
            </a:r>
            <a:r>
              <a:rPr b="1" lang="es-CL" sz="1800" spc="-1" strike="noStrike">
                <a:solidFill>
                  <a:srgbClr val="614020"/>
                </a:solidFill>
                <a:latin typeface="Book Antiqua"/>
              </a:rPr>
              <a:t>	</a:t>
            </a:r>
            <a:r>
              <a:rPr b="1" lang="es-CL" sz="1800" spc="-1" strike="noStrike">
                <a:solidFill>
                  <a:srgbClr val="614020"/>
                </a:solidFill>
                <a:latin typeface="Book Antiqua"/>
              </a:rPr>
              <a:t>- El presidente Errázuriz fallece en Valparaíso antes de terminar su mandato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479840" y="3025800"/>
            <a:ext cx="184320" cy="80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s fuentes del derecho constitucional. </a:t>
            </a:r>
            <a:endParaRPr b="0" lang="en-US" sz="3200" spc="-1" strike="noStrike">
              <a:solidFill>
                <a:srgbClr val="000000"/>
              </a:solidFill>
              <a:latin typeface="Arial"/>
            </a:endParaRPr>
          </a:p>
        </p:txBody>
      </p:sp>
      <p:sp>
        <p:nvSpPr>
          <p:cNvPr id="164" name=""/>
          <p:cNvSpPr/>
          <p:nvPr/>
        </p:nvSpPr>
        <p:spPr>
          <a:xfrm>
            <a:off x="1066680" y="1523880"/>
            <a:ext cx="8077320" cy="44197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l Acta del 18 de Septiembre de 1810.</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gún ella, el Gobernador Interino don Mateo de Toro Zambrano, siguiendo el ejemplo del Gobernador de Cádiz, “depositó toda su autoridad en el pueblo para que acordase el gobierno más digno de su confianza”. Por acuerdo de los concurrentes al Cabildo abierto, se establece entonces una Junta de Gobierno, “conservadora de los derechos del Rey durante su cautiverio”, presidida a perpetuidad por el mismo Toro e integrada por “seis vocales que fuesen interinos, mientras que convocaban y llegaban los diputados de todas las regiones de Chile para organizar el (gobierno) que debía regir en lo sucesiv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electoral de 1810</a:t>
            </a:r>
            <a:r>
              <a:rPr b="0" lang="es-ES_tradnl" sz="1600" spc="-1" strike="noStrike">
                <a:solidFill>
                  <a:srgbClr val="000000"/>
                </a:solidFill>
                <a:latin typeface="Book Antiqua"/>
              </a:rPr>
              <a:t>.</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o redactó el Cabildo de Santiago y lo promulgó la Junta con algunas modificaciones. Se concedió derecho a voto a todos los mayores de 25 años que gozaran de buena fama. No podían ser elegidos los párrocos, oficiales veteranos y subdelegados. Se excluían del derecho de sufragio y a ser elegido a los extranjeros, los que no fuesen vecinos, los procesados por delitos, los que hubieran sufrido pena infamante y los deudores a la real hacienda. Se distribuyeron los asientos del Congreso en cierta proporción dentro de los diversos “partidos” o circunscripciones territoriales, tomándose en cuenta la población de éstos. “Los Cabildos, y el subdelegado y cura donde no los haya, formarán una lista exacta de todos los individuos del partido que tengan derecho a concurrir a la elección, y la formarán autorizándola el escribano, donde lo haya; en seguida los citarán por medio de esquelas, señalándose día y lugar en que deben concurrir a dar sus vot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7:56:35Z</dcterms:created>
  <dc:creator>Rodrigo</dc:creator>
  <dc:description/>
  <dc:language>en-US</dc:language>
  <cp:lastModifiedBy>Abogado</cp:lastModifiedBy>
  <dcterms:modified xsi:type="dcterms:W3CDTF">2010-05-19T16:48:57Z</dcterms:modified>
  <cp:revision>122</cp:revision>
  <dc:subject/>
  <dc:title>Diapositiva 1</dc:title>
</cp:coreProperties>
</file>